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9.jpeg" ContentType="image/jpeg"/>
  <Override PartName="/ppt/media/image11.png" ContentType="image/png"/>
  <Override PartName="/ppt/media/image6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31.gif" ContentType="image/gif"/>
  <Override PartName="/ppt/media/image28.png" ContentType="image/png"/>
  <Override PartName="/ppt/media/image38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png" ContentType="image/png"/>
  <Override PartName="/ppt/media/image25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9DC-FAC4-46D0-BB46-5C7C5C2D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955-135E-4E48-86EB-C75A06D18B14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a global “break” in history? Why do we start he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1750 Evolution of ideas from Enlightenment and Absolut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s 1914 – Beginning of WWI (end of long) Shifts i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there be a better time period nam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FE79-288E-438B-8857-A3D14E0CD48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D about migr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students’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migration of this time was between China and SE Asia     Asian and S.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00’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ured labor issues! Diaspor communities in SE Asia.  Population issues: China is looking for places/alternative…land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0146-E15B-4E06-8AEB-20A1C0956131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/Japan  DBQ and industrial revolution. Text books have good global perspectives.  IMPORTANT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DE3-E740-4539-AEA4-A0CD7C83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752-36DD-4384-88E8-CABA6DE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DE67C-EC23-4CB1-A9F8-B4D7986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6B511-819A-47E0-A1D4-43C7C4AF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5654-9346-49E3-BFAB-7887C8A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281E6-261E-4C10-8BBC-A365F67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1DC58-8091-4E5C-86A9-0B6DB67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A259A-4777-458A-8A5E-3137F80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1D6AE-C014-4517-BCA4-A88EA55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68413-C73A-4A7E-93A4-4674474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1462-4AC2-49FA-A791-426AA167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AEB8A-D8B7-4C9F-985B-A4C879CF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C5C-1DC5-493C-BFCA-1A644EA3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927F5-8AC1-4BF3-885C-752BE24D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6C48B-838E-4728-AC9A-4C196AFF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14856-8E70-476F-868E-F954D03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CF9A5-DC87-443F-B6B5-7FD26C6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52E2D-2487-4A44-9239-AB74F0F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00B71-EBF3-46BF-8E77-F3BBF2D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E7620-88F9-417F-8A07-79A37A9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2648D-78B3-40E5-88BF-4E85683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56179-25F2-4BAA-A422-C90C0F8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3A5D-3A01-4A09-9152-AF1D4A7B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E26-E2D1-4976-A9E0-C89C2BE0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3373A-4DFB-4FF3-B7ED-3C623388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50887-7939-4F93-B5E3-D030CB99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6C335-F9FB-4B35-BDBA-7C451EE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47276-8531-41D9-B4EC-77785E2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D143-7C80-475D-839C-9AFD8BB6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40D9-F2BA-4947-95A0-EFF7F69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97346-660F-4BA5-8C44-9501DD53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D1E93-AF15-41DD-AC6F-8979EC8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AD8A6-00F6-461E-9A5A-96DAB59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3E9BD-7908-4744-A0C7-BC827DD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82F-DFC6-492C-BE46-4AF0C511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2F57-AA3A-4E33-8994-A8BB68DF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26F07-695E-42D6-9872-17DCDA5C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1D74D-3BDF-4530-8513-47DD04B6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2079A-2362-4D0F-8E65-15920B6A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318E6-B3B3-4428-9661-4282779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800A5-1212-4385-9BE0-38D29CD3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E72F9-D98C-49E3-9B40-08500D42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9FB12-2164-42B8-A945-8FDBC3F0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C6A4C-3256-410F-825F-8B3C351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2392F-29C1-42DD-930D-BE7EE7B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548-38E3-4827-B8FC-4E6F175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50EAA-AD00-41A4-B8F4-B399CAB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8FF60-25C8-40EB-87B0-BBF07BF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A58EA-D650-4A66-861B-F058AC4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23FBD-78FD-467F-A4EC-AC40C66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479F1-BD81-4B73-BD55-F2C5115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75882-70BC-495B-AE48-F771333A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005D3-BA46-4361-914B-35840E6C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4D1AE-EC7B-4CDC-8C41-CCA0E21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8BB7D-AE7D-4CD5-BDA5-3A3BA32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FABDB-5FC1-4C91-BA69-52E1A4DE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CED-3A88-4798-833D-250CEF6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99227-4EA4-45AE-99FE-D413582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2877D-CA1B-44B4-8852-2C28820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4D392-8B8A-4DF6-9184-D8C3689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93AE6-847B-4F8C-BC9F-A8A5BF5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7A6E1-66B7-4F91-9FAB-CE6258C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FA7DC-74F8-4060-8FBE-1562D664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D358A-FD18-4BB6-8CD6-C1986767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636B2-E085-45F4-B4D2-188F639A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5D2E7-367C-4721-A84F-4A8F984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9A6F2-C40E-4E9C-B7DF-C9702442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EC2-AE3A-4C84-BAE3-5E4F86C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8A606-7894-4F1E-B8A5-BE03AB6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F5C20-3188-41B1-81C6-80A16382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2E7EC-5F45-4F60-8651-5D43069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82678-B864-4843-B760-CE853BC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3C2F3-9631-4D9E-B8DA-046D03C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19B69-303C-443E-94EC-1812727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2B567-C401-4395-A8ED-832E246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B9DE5-6FE0-4548-AD58-E99D7C26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18A56-2ED6-40F8-8101-388FBEFC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3D194-CBC4-4012-ACDF-B43406D3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F31-C2A8-4FED-A028-0AB9D02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7FBFE-BE99-4716-BDD7-3576445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B0D7D-FBB6-42D6-BEE3-DDCCCE9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ED708-ECCF-48D5-8DB6-D59DD9E8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5B5DF-B57A-45B0-B5FC-46667E4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CCC6C-4238-483B-B547-D7BEE25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5D165-4B5F-4E61-BEEC-CAA45D73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5146E-C3CC-43D5-B293-FF325AA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6A1DA-8302-477F-AB5E-1955092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715B9-7220-42D7-ABDF-E1B056DE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82BD9-4BBF-4997-8A35-AF7A4DCB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88D-396D-49D0-BDF9-42FB03C5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CAD53-1012-4ADF-A8E5-9D7E9665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C3D80-D12A-4376-AC9A-B0F6CAFB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E53AD-2A65-4243-9F44-280DF26C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CB64A-A387-4374-8E44-4B71D4A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AE400-0CB0-412C-A781-C114D94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4E17D-599E-40EF-BAEA-DF1E7518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7904C-FA31-414E-BEEC-47FD72B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58380-AC70-40E5-A546-AA0B3D5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0B610-4361-4659-B7D6-C2B6C98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75D79-5E98-4D2C-889B-DB97CEE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ACE-3082-4B7F-9682-7429242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EAB7A-E0D6-49AA-ADB4-8D609C0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6F746-0AD4-45BB-BDDF-874AADD0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46178-0EE9-4B71-A17E-A86AD2B5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8CA51-DC35-4A31-B2D0-9F9A8442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44ECF-15B1-4C17-9D98-FF149610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355D3-5C67-47C8-87F7-0E8D653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ED65F-156D-4822-B68C-429A6E46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F8082-534C-40B2-913D-9868611E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8BD65-6ED0-448D-807C-602042C0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D8608-8D60-4180-A31B-C4B0B7A7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39B-DDFF-42A7-B338-CC78C4A0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906-3CA0-4AAE-9D25-A536463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B7B3B-C085-4728-AF23-440C9DE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AFC41-B1BF-4362-80C6-F043AA5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ADF2B-E2AC-4B7D-A364-8B4EA3F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D4A38-5EB9-4629-A139-33AFFEE5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25168-C830-4501-9313-3CB6B5A8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F0CB3-6C27-4BA8-9B32-FD1EC98D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94063-8307-4B7C-BE4A-372984BF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4C601-0CB1-463C-9EC3-C982A2E0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674B1-F433-4A0B-8ABB-6C03676A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34815-1E7A-4240-B9A1-940D596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00E6-E197-453E-B177-49B3BF3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E08CC-E34E-4F1F-94A8-19740D4A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08741-48EB-4BA1-992E-10B951C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EE647-991F-4897-B227-D58ECDA9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FB3C6-3E8B-423D-AEF7-DB4A6E1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D6886-50D7-48EC-A602-4825BAA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C5266-85E2-4BEF-82BD-6485D4B1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7F88B-6DA7-47F9-A4C9-4DA2BE0A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E77BD-69F5-46F9-A764-37D2CBC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6FE95-FB25-4481-BC56-0CD3E232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D0F1F-0FF7-43C1-94F1-6E05E90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B40-17EE-4D72-A286-2F1DB3CC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B8E48-3418-46B2-ABF9-A8C3D72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F1E03-D092-4F2F-B10D-BCF400A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DDB60-7C93-4763-8D27-D5F37E1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83D74-7368-4B68-B85B-2A3A58D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36E98-2A6D-4C5E-8C02-5FE1811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428E4-4C77-416A-8EE4-88D11A2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230B4-7EE9-4D78-8C3E-54E85DD2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A8ED6-9D86-4A56-A0C9-DB089E22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90E10-AD43-4273-A595-0F6270A9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C3DB4-58AD-40CC-8D9E-C2740D95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A4A1-143E-48DF-89A9-3F4D1515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701CB-09CB-4901-BC4E-B1742FF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62155-5EA7-4E20-AADB-52854BB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5A2BB-D30D-45A1-8797-7B9B167B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3C634-1070-41C4-9C66-317B87D3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2211A2-C032-4202-9A03-4580B2F1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426BA-AF4A-44B3-9DBE-17E6E14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2FC27-6942-4215-A12F-269210D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2E459-6551-43DB-ABC8-03B2CF1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65BA0-E788-479E-9FE4-5FF2BE15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220D1-0B87-4431-B20A-A283B40D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221-B5B8-4FDA-A7DF-279B6474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2CF50-8CC5-4F2A-823E-3977DA84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3C05D-7491-45D6-9CC1-FADDED17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0C973-ACF5-4E95-9715-24C4E0B5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15AEE-8FF6-415C-8724-DA6963D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429B1-C608-476C-B71C-C413A65D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53CB0-4875-4F3F-84F4-AB35AE8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96DAD5-E389-44CD-AAEB-0C7AB6E6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55FD5-31EE-4524-8F0A-18D8CE3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9CF1C-57BB-41B2-84AA-52B01FE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A9B14-6F9D-433C-BF0B-A65F648B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A19F-38C8-4014-A019-A3915DBD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3B658-A006-429D-ABAA-3C5D4FB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BC6F7-4EDB-4AEB-BC03-B7D83BA6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C7D3E-BFC6-4CFE-B720-0B553D31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810CB-6862-4141-80CE-FFC664E8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3B634-2CD2-4A3D-802C-E4A5E25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C1DA1-4EDD-453A-81C5-C8541AC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5EA75-8B45-4711-B05B-2C9AB390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3FB23-8138-4063-BB3B-5AD6F91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B7C4B-0C05-466D-A9AA-3B747E63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200076-6D04-4A31-9CF4-D0325D5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DE60-88C7-48F5-8DF1-B0F3A30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96509-E4DF-4E52-9476-C65713B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09834-9E0C-46B5-93E3-297F0AC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949AA-08CD-498F-A618-F06F69A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D839AF-E633-424E-B052-9049D804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D32FE-C351-4671-8DBF-81763FAC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1E764-2CBA-4BDF-93CF-73B2B339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AD24B-3842-4BB6-8A21-7D73AB80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E0AF03-C11A-43AD-B838-DC719273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C2354-E369-4DC0-B3C2-C4032EC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BA122E-F847-4B53-8208-EE16F37E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A82F-C3D2-4869-8D98-673B4E7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CBBCE-B52A-4CB8-96A5-CE0D00D3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352E7-F2A0-4732-8B5F-0593ECF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150A0-432E-4684-B282-F5AF6AB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29C208-F71D-4686-8080-84373A5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C4B0B-F6E2-4E2C-8A48-0561EA4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DB620-60E9-4350-90C3-3791C289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1170B-90E7-4611-932A-80A4B87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E46D44-BEAC-4ACD-86DE-0DD652D6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36D3EA-FCCD-48D3-8798-23AFD948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1308DA-3380-4C42-A52E-479973E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7256-1250-4923-8D92-E481C4A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22DB88-46B8-4F5F-8D44-57C4D49B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10799E-8364-4681-A27C-02E7EB3F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2F44A-199E-4A57-9197-3611FCD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46BFAC-DEA9-4859-9962-3062497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5D9638-F334-481F-B154-8C05518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044E2-D5A2-4EE5-BB11-9239F0E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A2B0C-2B04-4180-BBFC-24792A7E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3ADDDD-83DC-4F40-BBD3-980ACF6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B6019-21F1-4C1E-9C56-98D38B38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41C251-9535-48D7-9F58-4A90829A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D2C3-EB48-482B-86F1-0604A32B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EC5B22-FF45-4652-9AA8-4F17696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3DCECC-5E20-4967-A81F-BBA96E00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546831-185E-458B-872E-888AFBF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C7D66A-12B7-4B19-8F7E-B4A2186B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6F6D42-9B17-433E-9261-7B8386B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5AAF00-7DF6-4F6D-9CAD-78922F6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EFA1C6-2337-4590-B835-33B57B4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5B4AEC-ABDC-47D0-AE71-48FDF0A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55B37-42F4-4901-B82E-C8ADFED5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F57CB-A9F2-4A48-9D2B-CFB44813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EC6-A358-42AD-870E-31F18CF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DA9D-97B0-4BBA-B67C-AC16C30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80260C-0624-4DB1-A666-EED88675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B77FA3-9AE9-48E1-8965-EAAD2181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D6A7C8-1CB9-41E9-ADCC-2A1C8D45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8805EC-FC38-460B-B0A5-A6EA6D4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AB30E-A3DF-4C9B-B5FB-9BA39833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429C66-7C89-4F6F-801E-99BF564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E6A7A0-20CA-4F29-9B2C-25BAAA75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B5951-6768-4E48-85AD-DAC0719B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98C271-F5A9-433E-B6A0-A98FE4A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37BAD0-ECD9-4AB5-A996-2014B6F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E748-CB94-4333-A054-855C35F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1D1FF-63A2-4109-8559-81008C0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ACA436-9DBE-4BC4-A0C8-A2282EA1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3F57DC-8C5A-40B7-9C3D-3486AF3C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2D343F-B6BF-4139-A6EF-A9CEB806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FD1462-7DF1-4EA1-B15D-B1F1890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73AB96-A333-4FF9-9A12-CD81214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779D45-8C7F-453E-B3FE-D730A9DC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C62A5D-F3D5-476F-A98A-474123A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0299F7-5B31-4043-BA92-8E5B434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64CA91-EE55-455D-A1A4-A974CA7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7311-0D19-4B0C-B00F-CB23FEB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49896C-F57F-4BA0-A37B-EEFA3A0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B0301C-B8CC-43F6-AD12-4D76C94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C4BB8-5DFA-498C-A5AB-9B8FEE1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4547F-3FA2-4C22-904F-F29EB94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972A42-F4DE-4755-8769-1763D8AF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F1FDB-B1F7-48B9-B58C-79BB9765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F1F8A1-33AE-4D7E-9B93-A7E1E77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D0D7D6-382E-4EB1-9561-D3EB239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F48176-D9E2-4DB7-B331-DE9772F2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03409-FAE0-4D2A-A7B5-6E7588B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7F13-1922-493F-9351-501AEAE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517FD7-1A7A-4F62-961F-2AD42AB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DB871C-4649-4E94-84F3-2AB6C80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0C647E-DB87-452F-AAFB-48D4F55D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ADA96C-A961-46F8-AF72-9281F37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C5B2C0-FDD3-4592-B7E1-5BF9011A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0F60D9-25E9-445C-AE02-1BD37A59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4BAD57-58C3-4B45-8A83-2AFDE935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B7F740-08AE-4213-9CBC-47A5C7BB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2DC4FD-60CB-4C49-9606-275DB69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85CE99-2D28-44DA-92EE-973FC43C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38FC-FA4B-4DA7-B182-1FDC8D5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2FB246-ABB7-4E6F-9405-E92B200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FE6BC-150D-480C-9A43-548E833D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9197AB-1BCF-4201-97D1-1F989A1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FA32EF-99C2-4896-AB2A-FF2F7ED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611D76-7262-4E82-A9F6-FE254BA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6BB226-A2AF-4832-89C3-5DCD756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3A106-9110-47C9-BB1A-878A219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88E8BB-C742-4D74-B43C-1D7266A5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89B4EA-9B94-4E93-BFA1-93FD8462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92FD8F-E5B9-4B5A-93AD-DCDA0867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6537-F2F7-45F0-B4BA-EB28EF35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BBEDEA-C019-4A47-B8CC-04F973C8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107B8-E739-430B-AF29-2A2D9A69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36077-FAC2-4F23-9C16-AAD1B88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151D84-5096-4E12-BF02-66E44EE2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FA3631-3C5D-4CAB-AFB5-3830E4D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2994A8-6BA2-4B46-8EAF-2840F30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603E86-2F48-45E4-A977-84019AB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292B8F-E762-4801-B64E-8DF1821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451610-5846-421F-92AB-505998B3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EBCDA0-C371-4A76-AFAD-ADB6A34E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FC4C-AE1D-43E7-A4C9-C4AC17AF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0FDE78-A395-42D0-A87F-462D674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9A9D62-903E-491A-B0C5-E30DCE4F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BDA7C4-633D-449E-835D-2F612FA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C4ABBF-1528-4170-B2E6-F17968E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07D64-46DD-4229-9CB5-05F1965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AF7E61-4350-475D-81B0-C5446148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6B4521-69F8-4769-BBEF-DD1B96A8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91CCEC-067E-4A62-9BA7-6B2B62A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7AA8EB-7335-478A-9D7B-64CA042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090901-E7AA-4A91-B183-E67FE02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7F8A-FA03-44C1-A113-2F703A1B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9A49F0-3A0A-498F-BDBC-2949F44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A28A8-C576-4E7E-A008-0EFE6EBC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DBB5AF-17CB-4B0E-9074-6DB6CDDE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DE1929-B47F-470F-8F92-55765AE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80296D-D90F-4A15-A267-FA2C53F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A26C6F-CD8B-4175-831D-1CE9E8A1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301758-4CC4-4BAE-A6AE-3109128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F70977-5908-469E-A0E9-521E7F85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326088-1734-4DD4-B2D4-9B88B66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DBAE0C-1BA2-4F60-B5F6-44DC64A2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2CFD-2CC0-48B8-BD2B-8C0ED7B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8B46EF-3590-4888-A6C4-18F6388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DC9C8C-8AA5-4B5D-BC77-059DF2C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971AFA-5336-426D-A930-1A524C87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064E22-CBD6-454F-8C08-E01E6B4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EFEE2D-52CC-47EB-B88C-185583D1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5DB5E7-FD07-413B-A999-8A1E0675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F93CCD-35A1-49BD-AD90-4CC6EE51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D1715F-4F1D-4CF4-8EF7-D22BFEA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76A1F8-1479-471F-BDB3-F25BA8D2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16CF55-7260-4A8B-B675-930E49F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0E17-75D1-44CA-BABF-0A9A20C8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C52776-63A8-48AF-9AE4-8E784922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271594-9CC7-4C34-8144-60D78B0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477188-6A5B-4A6D-AB14-9908A07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CBBB07-B688-4027-9DA3-EE64B3A7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7E62DB-FF98-42F8-BCFC-6E435DB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9BC98D-A7A5-4BB2-8E48-6EBB6E70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8B0A79-2079-4AD5-A031-C7262879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5436F3-75F8-4D1F-912E-DCAAD612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E40734-3135-41E8-B5B9-1C1F271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A2477E-052D-40E2-85FE-9DAB945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715-A3C4-401F-B23F-15D0E3E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F31D-A2A4-4C34-8428-E76ABE5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975116-A88A-4938-8677-4B6A868E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C4DFE9-DC68-4AD1-8E1F-94FC3C1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D24CBF-1298-4947-815B-DFB37C4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7CE551-304D-43E0-AB1C-D8981E5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A87139-A9F9-40F0-A722-A8F52E8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E18E85-134F-4A8B-80F6-0B17A5E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A3B80D-E526-444B-8EFC-BF89968E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B3F29B-CF9A-410A-AF13-50388BC7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DE0F9E-8187-4954-8B9E-EADE9EEA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FDD06D-C91E-4FED-9B53-DF7B6C1C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149D-1469-4F35-89B0-8BF257E7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F70655-97CA-4960-A89A-C50DAA26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8B7B43-152C-42C4-88B0-F6CBDD81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D8B504-3A08-48D4-9EA2-060B347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546E05-BBBF-40FC-BDA3-70F67AE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68C7F2-56BA-4C0E-8B89-E3978427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09598D-7573-4F95-8676-35EF7C4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C9AFE3-32CA-4048-88FD-D571DC5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1C475E-5BE1-4671-B307-1FF9200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F5F967-B947-4A17-8814-D065DEA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B575DB-77F5-4136-87A9-E9EE3B1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91D6-1899-4629-8D2B-50AF3E6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F01618-7E99-449B-BF40-069611A1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26757A-5D1E-4EE9-97E7-6ADA11F6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AF1667-3405-4781-BA69-B4EA166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CF9AF2-ABE6-4B40-A8A6-41EBF48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B378EB-3164-4672-8F73-AC99548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797B9E-9E9A-4E85-BED0-31A43F8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5AE4BF-30A2-4658-B95A-68CECDD2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DE9B44-2235-42F2-BCA0-0C967AA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EC0C37-05EA-4168-A1B2-B5ED2897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ABA10-99DF-4316-87A3-BE489AD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A590-D18B-4E4F-A787-D86E4F8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EDC999-F269-4699-97F6-C422FB12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33F360-0D68-4822-A955-DF0C014F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854235-FBED-49EA-B2C0-265703BE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92EDFF-5440-45FA-A1EB-8B9E5758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A2A705-437B-4D72-BD71-792CB8FC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3AE79B-08BF-4770-8A9B-B78982C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083A86-B9B6-4426-9191-9592C30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ED140E-80AF-474C-A5BE-33A8F62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38F6AC-4097-476F-B8E1-9915E656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8DA2DD-1F5B-4A01-8ED9-D0EBC96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0872-C8AD-42C3-89D5-2B5F6A7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00F718-696C-48AD-A236-04F873B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014A00-CCFB-4C39-85C2-9BC4E05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C6E7D2-84BE-41E4-947C-DEA081B6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35A4FB-AAB9-4CFE-BE25-F3202FF5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B169E6-22A7-453D-B6F9-A502930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79B107-1048-4D42-9843-88C24C6A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F74324-417D-486E-AB35-7B0EB4AC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6F9A16-CF85-4483-87CA-2443085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390DC1-563E-4D96-ABD3-0A85119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90DEC4-FC84-46C1-B1A1-067545F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A7E5-EC65-4CAE-BD4D-01EDB64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4F0000-D5C7-452C-9198-5FF5C84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E8BE09-F485-4852-A8A8-97164B55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CB3FE9-9D48-4E09-B212-501117E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6F93ED-1A57-421A-B37E-8557C8E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FABFCA-DDC4-421A-83AD-373F0F5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D8673E-F39D-437A-BA0A-81182B5D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879143-BE8D-438A-B334-8922F349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06FA4D-E0EC-4C8A-84A7-1904BC88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CDFF77-C6B3-46BE-B272-4C11316E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548BC8-1DB2-4332-A87C-716F003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15B1-B901-41D9-A50B-5BDD83B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A52C5C-5E3F-442E-9399-89D50606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D48E60-22F4-488C-A92A-605493F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93F4D3-7E40-4B80-9CD5-0F758B18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278A0C-166C-4AB7-BE7E-A0DD98A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70C18F-6A11-41EF-AD33-94AB99B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5D393D-82DA-4F6A-B0D6-AC7CB66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B0E025-BFF3-481B-86B1-6F89E0DA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F13F74-3998-4080-840C-E743C6F7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E72497-682B-4D3B-ABAC-B809A586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021B68-F1FC-46A3-9A21-5C04C055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A76D-8951-46C4-986E-E37B7AB0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77A1D2-4AB3-44AC-9BDF-33668822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796352-1F04-4BEF-AE3C-76332FE1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D868F9-6DF8-492A-9A5C-EF201F1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746262-ACC2-4C40-88A1-977F6E84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02DC1E-9CAF-4856-A662-0CCF173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167D46-9043-4366-8CD4-AFA95CA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B59E8F-A692-4EF2-A192-971AD3D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40DED7-0922-4BA6-9BEA-0A31A36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5D1620-481A-487B-B8AE-3E817F60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286180-A0A8-435C-AFF6-F4C32BBD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4235-5EB4-493D-A66C-E246113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13BEFB-169F-4044-8185-2D6D81AF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DEB349-8F8C-418C-8DD8-5CB2E846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CDCB8F-B13B-45CD-A623-8715419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063184-BB25-47A5-80B3-CF245BB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4A3E44-9161-47FC-ABB6-2D052655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9B4041-0670-414A-8D70-F127B22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73FBAC-4512-4FF5-BA23-719050D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7B0162-71C3-43A7-8246-F7A44C8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5A8D43-5CAB-4AB0-AD89-77D5C56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2746B2-BFAE-43EC-94FC-C14C569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10CC-1D7C-423E-917A-1C31F012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516CF7-B9DF-4FB4-B08D-A4A9A658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BC5851-33BE-45EB-B81C-5301F0BE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BD5301-2637-467A-B54F-FA617870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4B8DC1-9FEB-4B0E-B252-9DE2F2E7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45F3F8-9DF4-408B-BC02-196CAD8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C53F9F-0682-43A4-A10A-34D45FF4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096981-F532-4216-8B6E-0F64A08F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251D40-BA7E-456E-A02D-7DB668E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4F3032-205B-4C28-A26F-D65B359F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8705D4-76FD-4278-BE50-663F565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4A1-0968-422E-B913-1F51080D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17AD-6B41-43B9-9871-765FE4A1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0C8625-CBE8-4AD3-A1D5-006C914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F7FDC9-385D-49E2-91D2-2BCD7D9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07B667-4C44-4DE6-A4F2-FF4747A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D6B1BC-BA86-4E04-A9B8-BA1C51C1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1F153A-71BA-4DC1-8B26-F1C45DC8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FC22BB-B7F7-4703-AAEE-3FC1101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05136D-4604-462B-913D-0AB16A0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A0F50B-D8F6-4B79-9964-7BB71D2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3B12A4-CC50-4D06-8265-D46C914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5ABB78-20E0-43B9-9B00-2127461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6677-8D6B-4B66-9396-CA03FB8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AF5783-E266-487F-9159-B6AD4D9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72DAE7-009D-464A-A40C-20B7EA9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419C26-6C98-4CE0-880D-15264D5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748AE5-BCFC-4929-90E0-9C2E83B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D322B8-72E3-45D7-AB6E-83ABC32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1926C1-735E-4C7C-92A7-FEED8BC3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38DAFA-6CA7-4A51-B81A-E1BE9135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665CDE-02C3-4456-A507-0DF3F4D5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A55735-ADF6-479A-945B-9BA8D2EB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1A994E-97DB-4E7D-ACD2-1064E8B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ADEB-C037-4513-9B9A-5D7C3BA6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994B54-F294-40A4-9BB2-F968A62D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EFC1FF-0024-4901-B580-5BA329B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071BAA-A1A0-43FF-B6F8-5AA67058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DA0A1D-1156-4D83-B250-7AE368C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3A0999-81C8-4607-91BF-EB140C8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961243-1143-4B39-8E35-DE0CB1A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1BCB07-A785-4E94-AD16-2F3EDD0F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8C6F9F-26C5-4DD0-90BB-1976A0BF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46AA88-493A-462F-9205-D9B1F3C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599D04-4D97-40DF-96EA-B10A99D9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67CC-2A6C-401B-A62F-41EF4A5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6F3312-2909-4B1C-8328-76DB734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BB8D4C-50AA-4FFA-A8FA-18245082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9B13AC-5E3B-42A2-AF3F-DD4B1D5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145CF15-2CE3-408B-8978-1B92F573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FF374B-19C6-4589-9341-21A836A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509C35-1AC1-4F4E-9CBF-58340E7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E20C2F-D697-4DED-B9E5-660C6F7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AFE8E4-EC93-4E16-94E3-36D3AFE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B8A6B3-F28D-4C52-B85C-73B9AB4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E3AF00-FCD1-4B74-B826-3E09A735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188D-A8AB-47DC-A313-A493FC4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6AE84C-DEDC-4DF9-AF67-29CD5B5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F73A2B-420B-4DB4-BB0B-32F2AECA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2751F0-B827-4F0A-B4D8-9378388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D2D5ED-0972-4BE6-AE86-D2ED3743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F54F08-0880-4A2F-AB13-7CE00981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9C77D9-3ABB-4FD1-A1BC-1900CAF0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F9A3F7-4B70-42B0-8476-D5783C09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E809D6-6ACD-460A-9BC4-89C566B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097EC3-10B1-4802-A32E-47A7B6E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E4CA84-63ED-4659-9381-A89468A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32BF-6737-4E0E-9C47-A2C7A6D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68C37B2-F50D-4EE3-BF62-FEBAE19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B27F33-9FEF-4AD8-9FE4-B79D9442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5B80E4-A7A7-4084-B3D9-1CD4128C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064B6F-ACA2-40F6-93B4-A45C5872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528D8A-97A4-40A4-8153-B21F8B5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E860AE-1464-4CAD-AF5A-D56FD4A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789E15-835E-448E-B3A1-03E286BC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FB2331-6756-4C90-84FF-0CD0E5E4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689463-F8E2-4831-8EBC-4853113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08D24B-0D08-484E-8A92-A65830C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B1A05-0E80-4F31-A9E6-9072FB2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71E68A-C282-43DD-A408-1720A51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300CBF-8F2C-4E86-8F94-AC6DD7D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551740-BFEF-4B58-A44E-22C10514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92AB8D-D260-4BB1-9C5F-BBCDDCEF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B9AF3B-C4E9-4A0C-BEA9-8D4F3548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13F474-8DCF-4EF3-AC55-0034F4B8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92CA84-40E5-47B2-961D-B7A78E9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0A009B-6C0C-4682-9C35-0D72576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DD6C4A-1CF4-48F9-B2F6-74317E09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B6DE6C-8B0A-440A-88A3-1FD6E4DC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116F-2236-414B-9952-2106BD8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D722E3-F81E-40AE-9AE1-3E24DFE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3E1E93-9853-467C-8F03-16631B8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1E25BC-DA9E-4C3E-91DE-0097939A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4B6A16-E8B8-4F56-BDFE-5436A68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CEA00F-7305-4858-878B-79B8BF7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CCB080-8056-4C53-8A54-B60E437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8E4A8FE-16CA-4036-825B-1FA1742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D97414-6FAE-4EDB-80E7-49AE3798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60FB86-BC55-4F1C-8D72-C12111EC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3FA99C-D9DC-4F02-89F4-133240C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927D-8054-43DE-9209-F6D5A31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21819E-177D-4883-83E6-84197178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F83E0D-5715-4DC1-B38A-3DD7E3E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973E44-48FE-4DAC-AB80-E5EC5F99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FDC725-FA28-462D-875F-8ABED9DB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F6D487-6F5B-4EB3-94C5-0A3140D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C82652-64B6-4F1C-BC11-96AE68E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08CE5D-9003-4247-AC35-13107DB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F156A4-DCCE-4F78-9F3E-2506E9B4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C9F05A-30C8-4685-A39C-59A92F5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A5E9D4-E487-47F7-B013-48FE204C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A3938-971C-4C4B-A169-E8BD390A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91ACF15-C629-4F6E-92B0-5291055B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3E50AA-40F5-4303-B5C7-121F9DA4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91F035-62D1-443C-826A-EAEC2C0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82DA9C6-F65B-438F-91D0-75113FB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81CAAB-816B-4D3A-B42D-5669F65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4C23CE-37C8-4536-B4D3-36EDE85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4AB3D7-5E4B-49EC-9666-68D871B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618831-27AB-4189-8098-F8344F5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0F9444-E1A7-4EA6-98CD-D55B102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94603D-8A6E-4DA4-B011-CE22B3EB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AB1-E0A0-4C07-8056-7B33FE6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34DB-1ECF-43AC-90B3-D8005A68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45A06B-E409-4E27-B193-C8D29244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833054-B42F-4BA0-AA03-567342AF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E9DE37-4DC0-4A9A-BCC8-77A2D0C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8DED75-64DA-416D-B266-AB718E3D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FD2C09-1C2B-4D30-AC04-668B5FA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2C3250-4276-4DCB-A181-F6A6541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AEF9DA1-6DDC-4237-B7A8-8EE3BEA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2A0A26-C06F-41F7-AB21-4ADA83E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7D4E23-5DA1-4D53-8219-0718E60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272A7A-8E24-418A-91C0-169E016E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6740-0EAD-48F9-89FE-AEB29C00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38DAB56-B19D-4B6E-B5C6-05A79008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32E733B-80FE-4FE3-804A-4D7A03A7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6704C5-38CC-419E-A7C5-86668F92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7ED65A-0757-4270-B1F6-E8FB1AF9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A8C9DB-939E-4885-9A41-F820FD2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932A36-32E9-4AFC-A92C-84ADAB2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EB7075-8AE8-4DA2-BFBD-2A73690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BCE0E7-3D0A-43FF-B90D-B1D3B5E4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D6DBAE-9657-4198-AE3B-03D68C14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C97D6A-E58C-488E-968C-45005A3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FDA5-0CC1-49E3-B640-13F0FD9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7C7AE6-CB94-4731-ABBD-89C28AD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5ADC91-B237-47C1-B7B4-D352F2C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78D543-2AE4-433D-A962-2A95302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88F471-056F-48C7-AC87-6A70FE25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B4546C-7EB0-4B74-94CA-3A9D020B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D196AFB-0166-4D27-AF34-7B4638EE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2584A1-EF5B-4A16-B787-E384258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111269-C384-43EF-99E9-3ED6845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FC1F57F-58E4-4B89-A2CE-3A3D7A7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FFB5E2-A728-42C0-A54F-A8018D9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C5CE-CA25-4667-B5E4-6A08E4A2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512957-9E52-4CDC-98ED-E773F48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8F7791-00A7-43FA-A19F-0A84889E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C27FCE-19BC-43E7-83FA-2CC9653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04FFAB-19DF-4DDE-A023-F91FE18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B032EF-2237-4F4C-B512-5B2CA20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3119760-8953-4AA4-9216-13269362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053179-A164-4AB5-9E16-F66C75C2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4F8D3A-AA2A-4485-BE18-0F89C5E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962107D-F455-4E0D-BF33-1E1DA27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05A5D2-BC47-4E10-AFED-ADB9602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61C22-5964-48FE-905D-C6177681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EDD3AD-F649-4AD2-AD48-56BC501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01F5750-23C8-47F4-9B1A-E96430F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3CB470D-659E-424A-9B70-B853A81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BDED12-B977-45A9-8650-4F20D46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C0EB01-1711-4A71-96BD-589BB5A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63FF2F-B789-4D40-B094-688636C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4E9C2D-0A73-4289-B3BC-6799C75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1D6779-E224-43F9-B5BC-1A3B54D5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C7E7F48-F38C-4330-8285-9D1C078B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5AB63C4-3532-4A39-8793-CC8A0FA4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519C-EA18-40D7-B8D9-55870E0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A2CC56-F711-406B-95DD-3044322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5135B2-B948-4C72-B076-880B2949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BAF76BE-5917-44A0-ACBC-910F2DA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DD1725-4CA4-4155-AA16-F6477509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1D3AEB-4AFA-460A-839D-47F0A68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4E7FEB-7A90-40A7-A0B5-E5F62E1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69C66D1-CFBD-41D4-BCD2-AA2D9E2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42B57A-A9A4-421B-8E41-3428506D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D302EE5-6863-4D34-8596-B9810D5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0BCEB4-728F-46A1-8832-5627A70F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471BB-D59A-4135-B50D-03D8E7F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0C8DA3-4AB0-4F95-843A-2D1F1424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EE3303-C094-49E7-B428-2F13C6C2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68230C-BEE8-44D9-BB58-37C7A69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329B140-64DE-4B9D-9EBA-2C2087B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A751E3-84AB-4E06-A5E4-A904272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A481CF-8026-442A-B7B5-199D96EA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208C51-0A2C-4578-8395-9DE769F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B4225B-07E7-482A-92C9-68D52F2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646391-3A2B-491F-857C-3693CDB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0D43F0-9671-4BE0-879D-96CA8FD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438B-0B49-4C6A-A3D3-3E1615A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EF897C-8297-45D4-BCDB-C87DEF96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26AA83-5522-409F-ADD2-77A714CA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C6D85D-9F9F-4B48-8F54-CA045BFD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F4EAB5-AE6B-43A8-A018-A431532F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093169-80E0-4B41-9B1F-FBE6FE4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BE1266-B649-4AC3-9CEB-B3F9C88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EE24D9B-327C-4704-B20C-457BAE0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C04370-E913-428D-8AF0-BBE1553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B33CF33-2A7F-4C54-B656-B53C1162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C3E7A8-FCAA-4C60-A36C-51D489B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3560-23F0-4942-BBEE-8245F5C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52866D-5FA2-4699-958B-E04BFB2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329B11-49DD-4618-BDCB-1194185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74C1EE-65ED-4920-B9A6-D88E984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2CB2EF0-8CB1-46D4-B683-4EC5EA6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F262A4-CCA2-48DF-8773-58796BFF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AC58-E2CF-4C4F-8FA3-0FC9722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9CE-69E2-4DA6-9CFA-751C1B0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AC84-1315-4515-B561-79D4EB5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5D0D-8CB7-4252-998E-12C2B154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70F3-8A43-416E-8423-5CBCB82A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21A7-38E2-42FF-9979-233A3A31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FB194-3B8F-4AC6-9355-6B43BE4F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06CD-16B3-4AFE-A9BB-1EA77CC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4E32-83EC-45E5-8903-217AE30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FB20-84D8-41BE-9CF9-C58A2CA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8F49-A8C5-4C30-82E5-38F1315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35BA-EEF0-4907-AA74-C721B37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924-9E3B-4039-A63B-41A6692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5896-6842-4C02-831D-E9409F1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CC03-24F3-4684-BA35-EE5184F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43D5-5D32-4896-900C-76857B2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A615-A225-4731-ACDA-FBED9627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6394-A450-4BAE-9F51-35B41B5E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8629-4971-4F8E-B4DA-B3C65485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64D88-5765-4610-B3BF-0A985A30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6F58-EE33-46A1-8F74-F0FEFACC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833DC-7255-4A3C-A6AF-CFF93B2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DEDF5-E798-458B-B16D-481246AF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B75-4EC7-45FD-A2ED-D3A5A39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FA5B-C74F-4274-8B24-1B892F62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5DE7-3BB2-496B-AB07-4652970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F7CC8-1914-4970-A71F-2D0DD938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1A04-8E4C-42EC-9BDC-19EA7F0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E82A-EFDA-4AC0-89E8-E0688D3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CE93-E889-4890-BE21-F80B6759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6435-E7E4-4078-A751-A24982DD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EF5B6-4BA1-4249-B95C-7EEE239C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CACF-5FDC-4C57-9C40-6701B816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50417-1C27-4530-B278-75E2D6F0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97.xml"/><Relationship Id="rId7" Type="http://schemas.openxmlformats.org/officeDocument/2006/relationships/slideLayout" Target="../slideLayouts/slideLayout398.xml"/><Relationship Id="rId8" Type="http://schemas.openxmlformats.org/officeDocument/2006/relationships/slideLayout" Target="../slideLayouts/slideLayout399.xml"/><Relationship Id="rId9" Type="http://schemas.openxmlformats.org/officeDocument/2006/relationships/slideLayout" Target="../slideLayouts/slideLayout400.xml"/><Relationship Id="rId10" Type="http://schemas.openxmlformats.org/officeDocument/2006/relationships/slideLayout" Target="../slideLayouts/slideLayout401.xml"/><Relationship Id="rId11" Type="http://schemas.openxmlformats.org/officeDocument/2006/relationships/slideLayout" Target="../slideLayouts/slideLayout402.xml"/><Relationship Id="rId12" Type="http://schemas.openxmlformats.org/officeDocument/2006/relationships/slideLayout" Target="../slideLayouts/slideLayout403.xml"/><Relationship Id="rId13" Type="http://schemas.openxmlformats.org/officeDocument/2006/relationships/slideLayout" Target="../slideLayouts/slideLayout404.xml"/><Relationship Id="rId14" Type="http://schemas.openxmlformats.org/officeDocument/2006/relationships/slideLayout" Target="../slideLayouts/slideLayout405.xml"/><Relationship Id="rId15" Type="http://schemas.openxmlformats.org/officeDocument/2006/relationships/slideLayout" Target="../slideLayouts/slideLayout406.xml"/><Relationship Id="rId16" Type="http://schemas.openxmlformats.org/officeDocument/2006/relationships/slideLayout" Target="../slideLayouts/slideLayout407.xml"/><Relationship Id="rId17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E8D2-0ADC-4646-B041-98353926FAE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1C7-ECA8-4B3F-B7B1-372864A528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F40E-44FE-43FA-990F-D2BF0C69B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0EC-EB61-4515-B8EF-D7A3E3613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4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A2C1-7541-4C19-9116-6423C2FB77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2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57CF-338B-4301-9F5B-B7D121E0C7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9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9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9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E003-2E3E-4906-86F8-45E2ACE890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7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7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ED7-7538-4448-8E73-2A353E0B7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7037-348D-4D04-A93E-624B375587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1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1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3E17-9581-4074-94EC-44021DDB9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9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0D0-47D3-4F86-933C-7E85DCC69E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54F-5D87-46D9-AD3C-393F6F6C42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6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6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93F-71F9-4EB5-B0E2-74532A1EA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4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34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7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E9E2-B38E-4F81-BF8B-814BED34DA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DC6-385B-4780-935C-90254AAEA7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9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7554-D4AB-4AFC-B3C2-7C288E71D5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6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6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6196-FA61-488B-BBF5-FB6CDA441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3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63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8CDF-A125-4689-9815-143D69653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1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45A-056C-4A71-B727-95E9450C6D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8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9BF-ACF3-4AD8-A01E-1E39E9F18F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6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BD4-9BA6-4128-A274-B07DFDEF2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3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F74B-813F-4E43-A9E1-CA924EF192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EEF-5B93-4813-8498-9ACC1BAD0A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0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F44-3E29-4E97-946D-A50481797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5BF7-CA7A-413E-8F66-9BC534B95A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9264-FAD4-459B-9E2A-5E44244AC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2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A7B3-B18D-4370-97AA-DBC8AE03AD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0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30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0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0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0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0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055-C312-427B-B480-197E544ED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6"/>
    <p:sldLayoutId id="2147484079" r:id="rId7"/>
    <p:sldLayoutId id="2147484080" r:id="rId8"/>
    <p:sldLayoutId id="2147484081" r:id="rId9"/>
    <p:sldLayoutId id="2147484082" r:id="rId10"/>
    <p:sldLayoutId id="2147484083" r:id="rId11"/>
    <p:sldLayoutId id="2147484084" r:id="rId12"/>
    <p:sldLayoutId id="2147484085" r:id="rId13"/>
    <p:sldLayoutId id="2147484086" r:id="rId14"/>
    <p:sldLayoutId id="2147484087" r:id="rId15"/>
    <p:sldLayoutId id="2147484088" r:id="rId16"/>
    <p:sldLayoutId id="2147484089" r:id="rId17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 type="dt" idx="10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 type="ftr" idx="10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 type="sldNum" idx="10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F45-C7A2-4150-B303-D40906A0F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9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39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 type="dt" idx="10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 type="ftr" idx="10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 type="sldNum" idx="10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BC5-A7EF-467F-8F28-6AD39369F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3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4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 type="dt" idx="10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 type="ftr" idx="11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 type="sldNum" idx="11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05F3-ECDA-4E5E-9F07-A4D59FAB8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8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 type="dt" idx="11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 type="ftr" idx="11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 type="sldNum" idx="11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F85-73D7-41A3-AB49-35FA4155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53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 type="dt" idx="11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 type="ftr" idx="11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 type="sldNum" idx="11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75D-A5BD-4D8D-84D4-37E2109D5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34EB-279B-4DB1-9831-C638B27F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7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57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 type="dt" idx="11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 type="ftr" idx="11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 type="sldNum" idx="12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3FE-984B-4B4E-BECC-A0942EE4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1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62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 type="dt" idx="12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 type="ftr" idx="12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 type="sldNum" idx="12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8C2-BB6A-4078-8B95-AD38AF0A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6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66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dt" idx="12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 type="ftr" idx="12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 type="sldNum" idx="12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AC0-EB41-4819-8EF9-A95E692B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0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1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2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2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2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B75F-E036-4BBE-9B66-67A43C81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5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5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 type="dt" idx="13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 type="ftr" idx="13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0" name="PlaceHolder 5"/>
          <p:cNvSpPr>
            <a:spLocks noGrp="1"/>
          </p:cNvSpPr>
          <p:nvPr>
            <p:ph type="sldNum" idx="13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DC04-839E-4692-B9F0-0D29C005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9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80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 type="dt" idx="13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 type="ftr" idx="13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 type="sldNum" idx="13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B800-691A-443F-9935-DE3EC75A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8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 type="dt" idx="13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 type="ftr" idx="13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 type="sldNum" idx="13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2F6-9FC0-4777-8F0E-8F9AF4E7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8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 type="dt" idx="13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 type="ftr" idx="14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 type="sldNum" idx="14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A3BE-9666-4C17-A599-504926F69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3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 type="dt" idx="14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 type="ftr" idx="14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 type="sldNum" idx="14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7E7-3F2F-40B8-87E2-2BFE94D16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7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98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 type="dt" idx="14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 type="ftr" idx="14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 type="sldNum" idx="14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656-71D9-49D5-92A1-88FF096BE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E5D2-2725-4E61-A7D1-DBD3EFBF0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2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dt" idx="14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ftr" idx="14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 type="sldNum" idx="15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EF9-33AD-4405-ABEA-7BB4078B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6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07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 type="dt" idx="15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 type="ftr" idx="15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 type="sldNum" idx="15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4546-5A81-42EF-A19C-EE8CCB8A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1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15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15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15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8E4-C7DA-4CA8-906E-926704BE2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5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6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15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15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15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4F8-AFCA-4641-9D1A-31EC3FDD0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0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 type="dt" idx="16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 type="ftr" idx="16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0" name="PlaceHolder 5"/>
          <p:cNvSpPr>
            <a:spLocks noGrp="1"/>
          </p:cNvSpPr>
          <p:nvPr>
            <p:ph type="sldNum" idx="16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9B8-E48D-4B7A-AE66-3893B59A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4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5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dt" idx="16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 type="ftr" idx="16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 type="sldNum" idx="16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529-7218-4DAB-9CB1-0C7B99B4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9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9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 type="dt" idx="16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 type="ftr" idx="16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 type="sldNum" idx="16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521-D5D1-49A2-80D2-ACE30505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3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34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 type="dt" idx="16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 type="ftr" idx="17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 type="sldNum" idx="17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A36-F701-45BE-9CAA-572FAA364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6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B757-0009-47E9-BE36-7F0479494DC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3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C18-FED5-4021-854B-22F3097EDF3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7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A6D-1516-4A5C-AC02-4E6BF6985F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7DB-C6BA-4D64-AAAC-22B38DC950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nit 4 Regents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750 – 1914 Overview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(Practice Questions up thrugh June 2013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56" name="Picture 3" descr="suez"/>
          <p:cNvPicPr/>
          <p:nvPr/>
        </p:nvPicPr>
        <p:blipFill>
          <a:blip r:embed="rId1"/>
          <a:stretch/>
        </p:blipFill>
        <p:spPr>
          <a:xfrm>
            <a:off x="1371600" y="1828800"/>
            <a:ext cx="1900080" cy="1905120"/>
          </a:xfrm>
          <a:prstGeom prst="rect">
            <a:avLst/>
          </a:prstGeom>
          <a:ln w="0">
            <a:noFill/>
          </a:ln>
        </p:spPr>
      </p:pic>
      <p:pic>
        <p:nvPicPr>
          <p:cNvPr id="3457" name="Picture 4" descr="suez-canal--opera"/>
          <p:cNvPicPr/>
          <p:nvPr/>
        </p:nvPicPr>
        <p:blipFill>
          <a:blip r:embed="rId2"/>
          <a:stretch/>
        </p:blipFill>
        <p:spPr>
          <a:xfrm>
            <a:off x="5105520" y="990720"/>
            <a:ext cx="3352680" cy="1904760"/>
          </a:xfrm>
          <a:prstGeom prst="rect">
            <a:avLst/>
          </a:prstGeom>
          <a:ln w="0">
            <a:noFill/>
          </a:ln>
        </p:spPr>
      </p:pic>
      <p:sp>
        <p:nvSpPr>
          <p:cNvPr id="3458" name="Text Box 5"/>
          <p:cNvSpPr/>
          <p:nvPr/>
        </p:nvSpPr>
        <p:spPr>
          <a:xfrm>
            <a:off x="4495680" y="2971800"/>
            <a:ext cx="49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Suez cana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opened in 1869; Erie in 1825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59" name="Picture 6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3124440" cy="2343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460" name="Rectangle 8"/>
          <p:cNvSpPr/>
          <p:nvPr/>
        </p:nvSpPr>
        <p:spPr>
          <a:xfrm>
            <a:off x="533520" y="39625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ephenson,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Rocke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, 18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ulton, steamboat, 180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aimler, internal combustion engine – 1885 (Ford – 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assembly lin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1905 – Model T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right, airplane, 190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1" name="Picture 6" descr="india"/>
          <p:cNvPicPr/>
          <p:nvPr/>
        </p:nvPicPr>
        <p:blipFill>
          <a:blip r:embed="rId1"/>
          <a:stretch/>
        </p:blipFill>
        <p:spPr>
          <a:xfrm>
            <a:off x="1219320" y="1905120"/>
            <a:ext cx="4343400" cy="3730680"/>
          </a:xfrm>
          <a:prstGeom prst="rect">
            <a:avLst/>
          </a:prstGeom>
          <a:ln w="0">
            <a:noFill/>
          </a:ln>
        </p:spPr>
      </p:pic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3" name="Text Box 8"/>
          <p:cNvSpPr/>
          <p:nvPr/>
        </p:nvSpPr>
        <p:spPr>
          <a:xfrm>
            <a:off x="5791320" y="1066680"/>
            <a:ext cx="304776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rms to Know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ritish East India Co. 170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poy Mutiny 185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andhi – Amritsar “Home Rule” (1948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kistan/India (Kashmir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nefits – educations, industry, railro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64" name="Picture 10" descr="imperialism"/>
          <p:cNvPicPr/>
          <p:nvPr/>
        </p:nvPicPr>
        <p:blipFill>
          <a:blip r:embed="rId2"/>
          <a:stretch/>
        </p:blipFill>
        <p:spPr>
          <a:xfrm>
            <a:off x="228600" y="304920"/>
            <a:ext cx="8915400" cy="6199200"/>
          </a:xfrm>
          <a:prstGeom prst="rect">
            <a:avLst/>
          </a:prstGeom>
          <a:ln w="0">
            <a:noFill/>
          </a:ln>
        </p:spPr>
      </p:pic>
      <p:sp>
        <p:nvSpPr>
          <p:cNvPr id="3465" name="Rectangle 12"/>
          <p:cNvSpPr/>
          <p:nvPr/>
        </p:nvSpPr>
        <p:spPr>
          <a:xfrm>
            <a:off x="685800" y="5638680"/>
            <a:ext cx="25909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antal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arl Mar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Disliked what he saw in facto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rote </a:t>
            </a:r>
            <a:r>
              <a:rPr b="1" i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Communist Manifesto 1848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–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proletariat (working class) needs to rise up against bourgeoisie (factory owner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Overthrow of capitalist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ill inspire Russian (Bolshevik)/Communist R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ckens &amp; Darw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ckens wrote Bleak House and Oliver Twist about the horrors of the industrial revolution – child labor, crime, et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rwin wrote about how Europeans were justified in conquering other countries because of the “survival of the fittest” mental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lthus wrote about population control would be natural based on the fact that the world could only feed so much – rest will starve – natural way of thing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rish Potato Fami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1848 Potato Fam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rish had become use to eating potatoes that they had gotten from Columbian Exchange (Latin America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Blight (disease) struck pota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Famine led to the mass migration of Irish to United State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72" name="Picture 7" descr="http://www.historyplace.com/worldhistory/famine/thp-poor-children.gif"/>
          <p:cNvPicPr/>
          <p:nvPr/>
        </p:nvPicPr>
        <p:blipFill>
          <a:blip r:embed="rId1"/>
          <a:stretch/>
        </p:blipFill>
        <p:spPr>
          <a:xfrm>
            <a:off x="2895480" y="4343400"/>
            <a:ext cx="3295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nges in Social and Gender Stru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1066320" y="2101320"/>
            <a:ext cx="40388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mancipation of Serfs (Alexander II) and Slaves (Lincoln) (1860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crease in Women’s Rights and desire for suffrage (right to vote) i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1848 –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neca Falls, N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creased birth control in European worl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75" name="Picture 5" descr="133"/>
          <p:cNvPicPr/>
          <p:nvPr/>
        </p:nvPicPr>
        <p:blipFill>
          <a:blip r:embed="rId1"/>
          <a:stretch/>
        </p:blipFill>
        <p:spPr>
          <a:xfrm>
            <a:off x="5334120" y="2362320"/>
            <a:ext cx="35812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cial Structure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st-Industrial Europ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7" name="AutoShape 3"/>
          <p:cNvSpPr/>
          <p:nvPr/>
        </p:nvSpPr>
        <p:spPr>
          <a:xfrm>
            <a:off x="1866960" y="1828800"/>
            <a:ext cx="5410080" cy="419112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8" name="Line 4"/>
          <p:cNvSpPr/>
          <p:nvPr/>
        </p:nvSpPr>
        <p:spPr>
          <a:xfrm>
            <a:off x="3467160" y="3657600"/>
            <a:ext cx="220968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9" name="Text Box 5"/>
          <p:cNvSpPr/>
          <p:nvPr/>
        </p:nvSpPr>
        <p:spPr>
          <a:xfrm>
            <a:off x="3886200" y="2743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Industrial Tycoons &amp; Bank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0" name="Line 6"/>
          <p:cNvSpPr/>
          <p:nvPr/>
        </p:nvSpPr>
        <p:spPr>
          <a:xfrm>
            <a:off x="3124080" y="4191120"/>
            <a:ext cx="28958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1" name="Text Box 7"/>
          <p:cNvSpPr/>
          <p:nvPr/>
        </p:nvSpPr>
        <p:spPr>
          <a:xfrm>
            <a:off x="36576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Doctors, lawy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2" name="Line 8"/>
          <p:cNvSpPr/>
          <p:nvPr/>
        </p:nvSpPr>
        <p:spPr>
          <a:xfrm>
            <a:off x="2819520" y="4572000"/>
            <a:ext cx="350496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3" name="Text Box 9"/>
          <p:cNvSpPr/>
          <p:nvPr/>
        </p:nvSpPr>
        <p:spPr>
          <a:xfrm>
            <a:off x="37339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Artisans, Clerk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4" name="Text Box 10"/>
          <p:cNvSpPr/>
          <p:nvPr/>
        </p:nvSpPr>
        <p:spPr>
          <a:xfrm>
            <a:off x="3086280" y="4800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Laborers –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Factories &amp; Farm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French Revolution –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879-1805 - Caus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equality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Estates Genera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5b5249"/>
                </a:solidFill>
                <a:latin typeface="Arial"/>
                <a:ea typeface="Arial"/>
              </a:rPr>
              <a:t>rd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estate had to pay taxes), bread famine, expenses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Louis XVI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Antoinette – Palace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Versaille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lightenment – Montesquieu, Voltaire, Rousseau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merican and British (Glorious) Revolutions were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  <a:ea typeface="Arial"/>
            </a:endParaRPr>
          </a:p>
        </p:txBody>
      </p:sp>
      <p:pic>
        <p:nvPicPr>
          <p:cNvPr id="3488" name="Picture 4" descr="liberty"/>
          <p:cNvPicPr/>
          <p:nvPr/>
        </p:nvPicPr>
        <p:blipFill>
          <a:blip r:embed="rId1"/>
          <a:stretch/>
        </p:blipFill>
        <p:spPr>
          <a:xfrm>
            <a:off x="5715000" y="2057400"/>
            <a:ext cx="35053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nch Revolution Ev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0" name=""/>
          <p:cNvSpPr txBox="1"/>
          <p:nvPr/>
        </p:nvSpPr>
        <p:spPr>
          <a:xfrm>
            <a:off x="1066320" y="2101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orming of Bastil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Declaration of Rights of Man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(Constitution) made at Tennis Court Oa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ign of Terror – Robespierre (leader of Committee of Public Safety) used guillotine to kill nobles – including Louis XVI and wife Marie Antoinet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nch Revolution - Resul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Napoleon Bonapart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created Napoleonic Code of Law and fixed prices on fo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d “Grand Embassy” – took out much of Europe except Russia who used “scorched earth policy” and 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cold climat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defeat Napoleon, ended at Waterloo.  Russia was also too large to defe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1" name="Picture 2" descr="MCj04124640000[1]"/>
          <p:cNvPicPr/>
          <p:nvPr/>
        </p:nvPicPr>
        <p:blipFill>
          <a:blip r:embed="rId1"/>
          <a:stretch/>
        </p:blipFill>
        <p:spPr>
          <a:xfrm>
            <a:off x="3581280" y="1066680"/>
            <a:ext cx="2667240" cy="2619360"/>
          </a:xfrm>
          <a:prstGeom prst="rect">
            <a:avLst/>
          </a:prstGeom>
          <a:ln w="0">
            <a:noFill/>
          </a:ln>
        </p:spPr>
      </p:pic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grarian Revolu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93" name=""/>
          <p:cNvSpPr txBox="1"/>
          <p:nvPr/>
        </p:nvSpPr>
        <p:spPr>
          <a:xfrm>
            <a:off x="380880" y="2742840"/>
            <a:ext cx="2235600" cy="11433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1701 – Jethro Tull’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eed Drill (followed b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ools for reaping an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hemical fertilizers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4" name="Text Box 5"/>
          <p:cNvSpPr/>
          <p:nvPr/>
        </p:nvSpPr>
        <p:spPr>
          <a:xfrm>
            <a:off x="4413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5" name="AutoShape 6"/>
          <p:cNvSpPr/>
          <p:nvPr/>
        </p:nvSpPr>
        <p:spPr>
          <a:xfrm>
            <a:off x="380880" y="3962520"/>
            <a:ext cx="3200400" cy="1066680"/>
          </a:xfrm>
          <a:prstGeom prst="rightArrowCallout">
            <a:avLst>
              <a:gd name="adj1" fmla="val 22687"/>
              <a:gd name="adj2" fmla="val 25000"/>
              <a:gd name="adj3" fmla="val 50006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1720s Good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eather i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6" name="AutoShape 7"/>
          <p:cNvSpPr/>
          <p:nvPr/>
        </p:nvSpPr>
        <p:spPr>
          <a:xfrm>
            <a:off x="380880" y="1447920"/>
            <a:ext cx="3353040" cy="1218960"/>
          </a:xfrm>
          <a:prstGeom prst="rightArrowCallout">
            <a:avLst>
              <a:gd name="adj1" fmla="val 25002"/>
              <a:gd name="adj2" fmla="val 25000"/>
              <a:gd name="adj3" fmla="val 45846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1600s Enclosure Mvmt. – by 1700s more popular in Englan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7" name="AutoShape 8"/>
          <p:cNvSpPr/>
          <p:nvPr/>
        </p:nvSpPr>
        <p:spPr>
          <a:xfrm>
            <a:off x="380880" y="5181480"/>
            <a:ext cx="3048120" cy="1295640"/>
          </a:xfrm>
          <a:prstGeom prst="rightArrowCallout">
            <a:avLst>
              <a:gd name="adj1" fmla="val 25002"/>
              <a:gd name="adj2" fmla="val 25000"/>
              <a:gd name="adj3" fmla="val 39210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1730 – Townshend suggest clover for crop rotation (no longer fallow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8" name="AutoShape 9"/>
          <p:cNvSpPr/>
          <p:nvPr/>
        </p:nvSpPr>
        <p:spPr>
          <a:xfrm>
            <a:off x="4724280" y="1600200"/>
            <a:ext cx="4572000" cy="45720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od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rplu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9" name="AutoShape 10"/>
          <p:cNvSpPr/>
          <p:nvPr/>
        </p:nvSpPr>
        <p:spPr>
          <a:xfrm>
            <a:off x="3048120" y="0"/>
            <a:ext cx="4495680" cy="2895480"/>
          </a:xfrm>
          <a:prstGeom prst="cloudCallout">
            <a:avLst>
              <a:gd name="adj1" fmla="val 17902"/>
              <a:gd name="adj2" fmla="val 56250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dless Farmers – need new job and new home (move to citie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0" name="AutoShape 11"/>
          <p:cNvSpPr/>
          <p:nvPr/>
        </p:nvSpPr>
        <p:spPr>
          <a:xfrm rot="20391600">
            <a:off x="3428640" y="5409720"/>
            <a:ext cx="2895480" cy="1143000"/>
          </a:xfrm>
          <a:prstGeom prst="rightArrowCallout">
            <a:avLst>
              <a:gd name="adj1" fmla="val 25002"/>
              <a:gd name="adj2" fmla="val 50000"/>
              <a:gd name="adj3" fmla="val 42220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ew High Yield Crops – potatoes, corn; turnips and bee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94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495" name="Picture 2" descr="http://resource.rockyview.ab.ca/t4t/ss201/images/m1/ss20_1_m1_026_l.jpg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tin Americ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au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1. Growing sense of national identity – same as 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2. Local resentment of Spanish/Portuguese economic policies – same as 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3. Frustration of American born Creole upper and middle clas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4. Spark/catalyst was Napoleon’s conquest of Spai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Haiti –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Toussaint L’Ouverture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803) – slave upri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umbia – Simon Bolivar created “Grand Columbia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952880" y="914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exico – 1810/1910 (Hidalgo – priest stirred mestizos; Morelos, landed elite led by caudillos abusive under Porfirio Diaz,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Emiliano Zapata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demands land redistribution – constitution in 1917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99" name="Picture 4" descr="EdouardJean"/>
          <p:cNvPicPr/>
          <p:nvPr/>
        </p:nvPicPr>
        <p:blipFill>
          <a:blip r:embed="rId1"/>
          <a:stretch/>
        </p:blipFill>
        <p:spPr>
          <a:xfrm>
            <a:off x="5867280" y="3429000"/>
            <a:ext cx="232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ocial Structure of the Spanish Coloni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1" name="Line 3"/>
          <p:cNvSpPr/>
          <p:nvPr/>
        </p:nvSpPr>
        <p:spPr>
          <a:xfrm>
            <a:off x="1905120" y="54864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2" name="Line 4"/>
          <p:cNvSpPr/>
          <p:nvPr/>
        </p:nvSpPr>
        <p:spPr>
          <a:xfrm flipV="1">
            <a:off x="1905120" y="1523520"/>
            <a:ext cx="220968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3" name="Line 5"/>
          <p:cNvSpPr/>
          <p:nvPr/>
        </p:nvSpPr>
        <p:spPr>
          <a:xfrm>
            <a:off x="4114800" y="1523880"/>
            <a:ext cx="2514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4" name="Line 6"/>
          <p:cNvSpPr/>
          <p:nvPr/>
        </p:nvSpPr>
        <p:spPr>
          <a:xfrm>
            <a:off x="22096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5" name="Line 7"/>
          <p:cNvSpPr/>
          <p:nvPr/>
        </p:nvSpPr>
        <p:spPr>
          <a:xfrm>
            <a:off x="31240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6" name="Line 8"/>
          <p:cNvSpPr/>
          <p:nvPr/>
        </p:nvSpPr>
        <p:spPr>
          <a:xfrm flipV="1">
            <a:off x="41911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7" name="Line 9"/>
          <p:cNvSpPr/>
          <p:nvPr/>
        </p:nvSpPr>
        <p:spPr>
          <a:xfrm>
            <a:off x="358128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8" name="Text Box 10"/>
          <p:cNvSpPr/>
          <p:nvPr/>
        </p:nvSpPr>
        <p:spPr>
          <a:xfrm>
            <a:off x="2286000" y="5029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e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Native Americans &amp; African Desc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9" name="Text Box 11"/>
          <p:cNvSpPr/>
          <p:nvPr/>
        </p:nvSpPr>
        <p:spPr>
          <a:xfrm>
            <a:off x="2895480" y="3505320"/>
            <a:ext cx="1752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Mestiz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Nativ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0" name="Text Box 12"/>
          <p:cNvSpPr/>
          <p:nvPr/>
        </p:nvSpPr>
        <p:spPr>
          <a:xfrm>
            <a:off x="4191120" y="3581280"/>
            <a:ext cx="17524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Mulatto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mix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1" name="Text Box 13"/>
          <p:cNvSpPr/>
          <p:nvPr/>
        </p:nvSpPr>
        <p:spPr>
          <a:xfrm>
            <a:off x="3048120" y="2514600"/>
            <a:ext cx="2361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Creo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European 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the coloni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2" name="Text Box 14"/>
          <p:cNvSpPr/>
          <p:nvPr/>
        </p:nvSpPr>
        <p:spPr>
          <a:xfrm>
            <a:off x="3507120" y="1676520"/>
            <a:ext cx="160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eninsular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bor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ai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3" name="Oval 15"/>
          <p:cNvSpPr/>
          <p:nvPr/>
        </p:nvSpPr>
        <p:spPr>
          <a:xfrm>
            <a:off x="1219320" y="1523880"/>
            <a:ext cx="152388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4" name="Text Box 16"/>
          <p:cNvSpPr/>
          <p:nvPr/>
        </p:nvSpPr>
        <p:spPr>
          <a:xfrm>
            <a:off x="1600200" y="1600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5" name="Line 17"/>
          <p:cNvSpPr/>
          <p:nvPr/>
        </p:nvSpPr>
        <p:spPr>
          <a:xfrm>
            <a:off x="2743200" y="205740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6" name="Oval 18"/>
          <p:cNvSpPr/>
          <p:nvPr/>
        </p:nvSpPr>
        <p:spPr>
          <a:xfrm>
            <a:off x="5562720" y="1447920"/>
            <a:ext cx="129528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7" name="Text Box 19"/>
          <p:cNvSpPr/>
          <p:nvPr/>
        </p:nvSpPr>
        <p:spPr>
          <a:xfrm>
            <a:off x="5791320" y="15238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Peopl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8" name="Line 20"/>
          <p:cNvSpPr/>
          <p:nvPr/>
        </p:nvSpPr>
        <p:spPr>
          <a:xfrm flipH="1">
            <a:off x="5029200" y="19810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9" name="Oval 21"/>
          <p:cNvSpPr/>
          <p:nvPr/>
        </p:nvSpPr>
        <p:spPr>
          <a:xfrm>
            <a:off x="457200" y="5791320"/>
            <a:ext cx="1295280" cy="76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0" name="Text Box 22"/>
          <p:cNvSpPr/>
          <p:nvPr/>
        </p:nvSpPr>
        <p:spPr>
          <a:xfrm>
            <a:off x="685800" y="5791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1" name="Line 23"/>
          <p:cNvSpPr/>
          <p:nvPr/>
        </p:nvSpPr>
        <p:spPr>
          <a:xfrm flipV="1">
            <a:off x="1523880" y="5714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2" name="Oval 24"/>
          <p:cNvSpPr/>
          <p:nvPr/>
        </p:nvSpPr>
        <p:spPr>
          <a:xfrm>
            <a:off x="6781680" y="5791320"/>
            <a:ext cx="1371600" cy="6858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3" name="Text Box 25"/>
          <p:cNvSpPr/>
          <p:nvPr/>
        </p:nvSpPr>
        <p:spPr>
          <a:xfrm>
            <a:off x="7010280" y="5791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4" name="Line 26"/>
          <p:cNvSpPr/>
          <p:nvPr/>
        </p:nvSpPr>
        <p:spPr>
          <a:xfrm flipH="1" flipV="1">
            <a:off x="6629040" y="5714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5" name="Rectangle 27"/>
          <p:cNvSpPr/>
          <p:nvPr/>
        </p:nvSpPr>
        <p:spPr>
          <a:xfrm>
            <a:off x="685800" y="2438280"/>
            <a:ext cx="2362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6" name="Text Box 28"/>
          <p:cNvSpPr/>
          <p:nvPr/>
        </p:nvSpPr>
        <p:spPr>
          <a:xfrm>
            <a:off x="685800" y="2590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cero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anish Governors of colon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7" name="Line 29"/>
          <p:cNvSpPr/>
          <p:nvPr/>
        </p:nvSpPr>
        <p:spPr>
          <a:xfrm flipV="1">
            <a:off x="3048120" y="2209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8" name="AutoShape 30"/>
          <p:cNvSpPr/>
          <p:nvPr/>
        </p:nvSpPr>
        <p:spPr>
          <a:xfrm>
            <a:off x="5181480" y="2438280"/>
            <a:ext cx="3276720" cy="1067040"/>
          </a:xfrm>
          <a:prstGeom prst="leftArrow">
            <a:avLst>
              <a:gd name="adj1" fmla="val 50000"/>
              <a:gd name="adj2" fmla="val 7677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Educated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acked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530" name="Picture 4" descr="p714"/>
          <p:cNvPicPr/>
          <p:nvPr/>
        </p:nvPicPr>
        <p:blipFill>
          <a:blip r:embed="rId1"/>
          <a:stretch/>
        </p:blipFill>
        <p:spPr>
          <a:xfrm>
            <a:off x="1371600" y="533520"/>
            <a:ext cx="71629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gress of Vienna - 181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etterni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aintain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balance of power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buffer state) Concert of Euro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Restrain liberalism (Quadruple Allianc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3" name="Picture 4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35440" y="1981080"/>
            <a:ext cx="5308560" cy="4114800"/>
          </a:xfrm>
          <a:prstGeom prst="rect">
            <a:avLst/>
          </a:prstGeom>
          <a:ln w="9360">
            <a:solidFill>
              <a:srgbClr val="cec8b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rman National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ollverei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rankfort Assembly (1848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Otto von Bismarck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Iron Chancellor)  - 1860s-7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ilitar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avored monarch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Realpolitik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Denmark, Austrian,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Franco-Prussian War (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70 – faked EMS telegram); Triple Allian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Kulturkamp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6" name="Picture 4" descr="ottoengrave"/>
          <p:cNvPicPr/>
          <p:nvPr/>
        </p:nvPicPr>
        <p:blipFill>
          <a:blip r:embed="rId1"/>
          <a:stretch/>
        </p:blipFill>
        <p:spPr>
          <a:xfrm>
            <a:off x="5505480" y="21016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talian Un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azzini – Young Italy (carbonar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avour – North Italy (favored Victor Emmanuel II) w/plebisci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Garibaldi – Red Shir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9" name="Picture 4" descr="p716_1"/>
          <p:cNvPicPr/>
          <p:nvPr/>
        </p:nvPicPr>
        <p:blipFill>
          <a:blip r:embed="rId1"/>
          <a:stretch/>
        </p:blipFill>
        <p:spPr>
          <a:xfrm>
            <a:off x="5638680" y="1066680"/>
            <a:ext cx="284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Black"/>
              </a:rPr>
              <a:t>Austrian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27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ultinational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of 11 ethnically distinct peoples – Germans, Czechs, Hungarians (Magyars), Slovaks, Romanians, Serbians, and Italian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2" name="Picture 3" descr=""/>
          <p:cNvPicPr/>
          <p:nvPr/>
        </p:nvPicPr>
        <p:blipFill>
          <a:blip r:embed="rId1"/>
          <a:srcRect l="0" t="0" r="1949" b="5039"/>
          <a:stretch/>
        </p:blipFill>
        <p:spPr>
          <a:xfrm>
            <a:off x="4267080" y="2590920"/>
            <a:ext cx="4876920" cy="3956040"/>
          </a:xfrm>
          <a:prstGeom prst="rect">
            <a:avLst/>
          </a:prstGeom>
          <a:ln w="9360">
            <a:solidFill>
              <a:srgbClr val="b0ae6a"/>
            </a:solidFill>
            <a:miter/>
          </a:ln>
        </p:spPr>
      </p:pic>
      <p:sp>
        <p:nvSpPr>
          <p:cNvPr id="3543" name="Rectangle 5"/>
          <p:cNvSpPr/>
          <p:nvPr/>
        </p:nvSpPr>
        <p:spPr>
          <a:xfrm>
            <a:off x="1447920" y="297180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Hungary and Bohemia want own legislature and national arm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Demand for a liberal constit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4" name="AutoShape 6"/>
          <p:cNvSpPr/>
          <p:nvPr/>
        </p:nvSpPr>
        <p:spPr>
          <a:xfrm>
            <a:off x="7696080" y="1447920"/>
            <a:ext cx="60984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1" y="261952"/>
                </a:moveTo>
                <a:lnTo>
                  <a:pt x="232848" y="261953"/>
                </a:lnTo>
                <a:lnTo>
                  <a:pt x="304800" y="0"/>
                </a:lnTo>
                <a:lnTo>
                  <a:pt x="376752" y="261953"/>
                </a:lnTo>
                <a:lnTo>
                  <a:pt x="609599" y="261952"/>
                </a:lnTo>
                <a:lnTo>
                  <a:pt x="421221" y="423846"/>
                </a:lnTo>
                <a:lnTo>
                  <a:pt x="493176" y="685798"/>
                </a:lnTo>
                <a:lnTo>
                  <a:pt x="304800" y="523901"/>
                </a:lnTo>
                <a:lnTo>
                  <a:pt x="116424" y="685798"/>
                </a:lnTo>
                <a:lnTo>
                  <a:pt x="188379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ttoman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Greek Revolution 182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rimean War 185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dependence of Balkan Region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“Powder Keg of Europe”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spreading influence of Austria-Hungary will create WWI)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Pan-Slav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7" name="Picture 4" descr=""/>
          <p:cNvPicPr/>
          <p:nvPr/>
        </p:nvPicPr>
        <p:blipFill>
          <a:blip r:embed="rId1"/>
          <a:stretch/>
        </p:blipFill>
        <p:spPr>
          <a:xfrm>
            <a:off x="4916520" y="2101680"/>
            <a:ext cx="4227480" cy="4114800"/>
          </a:xfrm>
          <a:prstGeom prst="rect">
            <a:avLst/>
          </a:prstGeom>
          <a:ln w="9360">
            <a:solidFill>
              <a:srgbClr val="b0ae6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Line 2"/>
          <p:cNvSpPr/>
          <p:nvPr/>
        </p:nvSpPr>
        <p:spPr>
          <a:xfrm flipH="1" flipV="1">
            <a:off x="2133360" y="1980720"/>
            <a:ext cx="1143000" cy="6858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9" name="Oval 3"/>
          <p:cNvSpPr/>
          <p:nvPr/>
        </p:nvSpPr>
        <p:spPr>
          <a:xfrm>
            <a:off x="762120" y="12193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Industria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evolu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0" name="Line 4"/>
          <p:cNvSpPr/>
          <p:nvPr/>
        </p:nvSpPr>
        <p:spPr>
          <a:xfrm flipV="1">
            <a:off x="2057400" y="1218960"/>
            <a:ext cx="762120" cy="152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1" name="Oval 5"/>
          <p:cNvSpPr/>
          <p:nvPr/>
        </p:nvSpPr>
        <p:spPr>
          <a:xfrm>
            <a:off x="2819520" y="762120"/>
            <a:ext cx="1218960" cy="99036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Source for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Ra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terial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2" name="Line 6"/>
          <p:cNvSpPr/>
          <p:nvPr/>
        </p:nvSpPr>
        <p:spPr>
          <a:xfrm>
            <a:off x="1523880" y="2286000"/>
            <a:ext cx="152640" cy="457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3" name="Oval 7"/>
          <p:cNvSpPr/>
          <p:nvPr/>
        </p:nvSpPr>
        <p:spPr>
          <a:xfrm>
            <a:off x="1295280" y="2666880"/>
            <a:ext cx="1219320" cy="99072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rkets for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Finished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Good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4" name="Line 8"/>
          <p:cNvSpPr/>
          <p:nvPr/>
        </p:nvSpPr>
        <p:spPr>
          <a:xfrm flipV="1">
            <a:off x="5105520" y="1599840"/>
            <a:ext cx="380880" cy="10666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5" name="Oval 9"/>
          <p:cNvSpPr/>
          <p:nvPr/>
        </p:nvSpPr>
        <p:spPr>
          <a:xfrm>
            <a:off x="4800600" y="5335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Europe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Nationalis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6" name="Line 10"/>
          <p:cNvSpPr/>
          <p:nvPr/>
        </p:nvSpPr>
        <p:spPr>
          <a:xfrm flipV="1">
            <a:off x="5791320" y="2057040"/>
            <a:ext cx="1371600" cy="6858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7" name="Oval 11"/>
          <p:cNvSpPr/>
          <p:nvPr/>
        </p:nvSpPr>
        <p:spPr>
          <a:xfrm>
            <a:off x="6858000" y="114300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Missionary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Activit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8" name="Line 12"/>
          <p:cNvSpPr/>
          <p:nvPr/>
        </p:nvSpPr>
        <p:spPr>
          <a:xfrm flipV="1">
            <a:off x="5867280" y="3352680"/>
            <a:ext cx="1295640" cy="763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9" name="Oval 13"/>
          <p:cNvSpPr/>
          <p:nvPr/>
        </p:nvSpPr>
        <p:spPr>
          <a:xfrm>
            <a:off x="7162920" y="274320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&amp; Naval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Bas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0" name="Rectangle 14"/>
          <p:cNvSpPr/>
          <p:nvPr/>
        </p:nvSpPr>
        <p:spPr>
          <a:xfrm>
            <a:off x="2971800" y="2514600"/>
            <a:ext cx="2895480" cy="1143000"/>
          </a:xfrm>
          <a:prstGeom prst="rect">
            <a:avLst/>
          </a:prstGeom>
          <a:solidFill>
            <a:srgbClr val="ff9933">
              <a:alpha val="84000"/>
            </a:srgbClr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Europe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Motiv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For Coloniz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1" name="Line 15"/>
          <p:cNvSpPr/>
          <p:nvPr/>
        </p:nvSpPr>
        <p:spPr>
          <a:xfrm>
            <a:off x="5791320" y="3657600"/>
            <a:ext cx="1143000" cy="9144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2" name="Oval 16"/>
          <p:cNvSpPr/>
          <p:nvPr/>
        </p:nvSpPr>
        <p:spPr>
          <a:xfrm>
            <a:off x="6705720" y="44197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Places to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Dump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Unwanted/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Excess Popul.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3" name="Line 17"/>
          <p:cNvSpPr/>
          <p:nvPr/>
        </p:nvSpPr>
        <p:spPr>
          <a:xfrm>
            <a:off x="4800600" y="3657600"/>
            <a:ext cx="990720" cy="16765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4" name="Oval 18"/>
          <p:cNvSpPr/>
          <p:nvPr/>
        </p:nvSpPr>
        <p:spPr>
          <a:xfrm>
            <a:off x="5181480" y="5334120"/>
            <a:ext cx="152424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Soc. &amp; Eco.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Opportunit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5" name="Line 19"/>
          <p:cNvSpPr/>
          <p:nvPr/>
        </p:nvSpPr>
        <p:spPr>
          <a:xfrm flipH="1">
            <a:off x="3885840" y="3657600"/>
            <a:ext cx="152280" cy="16002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6" name="Oval 20"/>
          <p:cNvSpPr/>
          <p:nvPr/>
        </p:nvSpPr>
        <p:spPr>
          <a:xfrm>
            <a:off x="3124080" y="5257800"/>
            <a:ext cx="152424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Humanitari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eason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7" name="Line 21"/>
          <p:cNvSpPr/>
          <p:nvPr/>
        </p:nvSpPr>
        <p:spPr>
          <a:xfrm flipH="1">
            <a:off x="2057400" y="3657600"/>
            <a:ext cx="914400" cy="7621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8" name="Oval 22"/>
          <p:cNvSpPr/>
          <p:nvPr/>
        </p:nvSpPr>
        <p:spPr>
          <a:xfrm>
            <a:off x="1219320" y="44197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Europe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acis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9" name="Line 23"/>
          <p:cNvSpPr/>
          <p:nvPr/>
        </p:nvSpPr>
        <p:spPr>
          <a:xfrm>
            <a:off x="2057400" y="5486400"/>
            <a:ext cx="152280" cy="2286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0" name="Oval 24"/>
          <p:cNvSpPr/>
          <p:nvPr/>
        </p:nvSpPr>
        <p:spPr>
          <a:xfrm>
            <a:off x="1752480" y="5715000"/>
            <a:ext cx="1219320" cy="83808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White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n’s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Burden”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1" name="Line 25"/>
          <p:cNvSpPr/>
          <p:nvPr/>
        </p:nvSpPr>
        <p:spPr>
          <a:xfrm flipH="1" flipV="1">
            <a:off x="1142640" y="4495680"/>
            <a:ext cx="228600" cy="76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2" name="Oval 26"/>
          <p:cNvSpPr/>
          <p:nvPr/>
        </p:nvSpPr>
        <p:spPr>
          <a:xfrm>
            <a:off x="228600" y="3733920"/>
            <a:ext cx="1219320" cy="83808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Social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Darwinis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3" name="AutoShape 27"/>
          <p:cNvSpPr/>
          <p:nvPr/>
        </p:nvSpPr>
        <p:spPr>
          <a:xfrm>
            <a:off x="457200" y="228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ults of Agrarian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3402" name="Content Placeholder 51202"/>
          <p:cNvGrpSpPr/>
          <p:nvPr/>
        </p:nvGrpSpPr>
        <p:grpSpPr>
          <a:xfrm>
            <a:off x="1128600" y="2094120"/>
            <a:ext cx="7602120" cy="3235680"/>
            <a:chOff x="1128600" y="2094120"/>
            <a:chExt cx="7602120" cy="3235680"/>
          </a:xfrm>
        </p:grpSpPr>
        <p:cxnSp>
          <p:nvCxnSpPr>
            <p:cNvPr id="3403" name="_s1028"/>
            <p:cNvCxnSpPr>
              <a:stCxn id="3404" idx="1"/>
              <a:endCxn id="3405" idx="2"/>
            </p:cNvCxnSpPr>
            <p:nvPr/>
          </p:nvCxnSpPr>
          <p:spPr>
            <a:xfrm rot="10800000">
              <a:off x="4453920" y="4485600"/>
              <a:ext cx="283320" cy="520920"/>
            </a:xfrm>
            <a:prstGeom prst="bentConnector2">
              <a:avLst/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06" name="_s1029"/>
            <p:cNvCxnSpPr>
              <a:stCxn id="3407" idx="0"/>
              <a:endCxn id="3408" idx="2"/>
            </p:cNvCxnSpPr>
            <p:nvPr/>
          </p:nvCxnSpPr>
          <p:spPr>
            <a:xfrm flipH="1" flipV="1" rot="5400000">
              <a:off x="2048040" y="3623760"/>
              <a:ext cx="182520" cy="288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09" name="_s1030"/>
            <p:cNvCxnSpPr>
              <a:stCxn id="3405" idx="0"/>
              <a:endCxn id="3410" idx="2"/>
            </p:cNvCxnSpPr>
            <p:nvPr/>
          </p:nvCxnSpPr>
          <p:spPr>
            <a:xfrm flipH="1" flipV="1" rot="5400000">
              <a:off x="4957920" y="3030120"/>
              <a:ext cx="182520" cy="118980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1" name="_s1031"/>
            <p:cNvCxnSpPr>
              <a:stCxn id="3412" idx="0"/>
              <a:endCxn id="3413" idx="2"/>
            </p:cNvCxnSpPr>
            <p:nvPr/>
          </p:nvCxnSpPr>
          <p:spPr>
            <a:xfrm flipH="1" flipV="1" rot="5400000">
              <a:off x="7630920" y="3623760"/>
              <a:ext cx="182520" cy="252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4" name="_s1032"/>
            <p:cNvCxnSpPr>
              <a:stCxn id="3413" idx="0"/>
              <a:endCxn id="3415" idx="2"/>
            </p:cNvCxnSpPr>
            <p:nvPr/>
          </p:nvCxnSpPr>
          <p:spPr>
            <a:xfrm flipV="1" rot="16200000">
              <a:off x="6233760" y="1593000"/>
              <a:ext cx="184320" cy="2793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6" name="_s1033"/>
            <p:cNvCxnSpPr>
              <a:stCxn id="3410" idx="0"/>
              <a:endCxn id="3415" idx="2"/>
            </p:cNvCxnSpPr>
            <p:nvPr/>
          </p:nvCxnSpPr>
          <p:spPr>
            <a:xfrm flipV="1" rot="16200000">
              <a:off x="5194440" y="2632320"/>
              <a:ext cx="184320" cy="714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7" name="_s1034"/>
            <p:cNvCxnSpPr>
              <a:stCxn id="3408" idx="0"/>
              <a:endCxn id="3415" idx="2"/>
            </p:cNvCxnSpPr>
            <p:nvPr/>
          </p:nvCxnSpPr>
          <p:spPr>
            <a:xfrm flipH="1" flipV="1" rot="5400000">
              <a:off x="3442680" y="1595160"/>
              <a:ext cx="184320" cy="279000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sp>
          <p:nvSpPr>
            <p:cNvPr id="3415" name="_s1035"/>
            <p:cNvSpPr/>
            <p:nvPr/>
          </p:nvSpPr>
          <p:spPr>
            <a:xfrm>
              <a:off x="3143880" y="2094120"/>
              <a:ext cx="3574080" cy="7905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5b5249"/>
                  </a:solidFill>
                  <a:latin typeface="Arial"/>
                </a:rPr>
                <a:t>Food Surplus</a:t>
              </a:r>
              <a:endParaRPr b="0" lang="en-US" sz="3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8" name="_s1036"/>
            <p:cNvSpPr/>
            <p:nvPr/>
          </p:nvSpPr>
          <p:spPr>
            <a:xfrm>
              <a:off x="124812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More People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0" name="_s1037"/>
            <p:cNvSpPr/>
            <p:nvPr/>
          </p:nvSpPr>
          <p:spPr>
            <a:xfrm>
              <a:off x="475200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5b5249"/>
                  </a:solidFill>
                  <a:latin typeface="Arial"/>
                </a:rPr>
                <a:t>Excess Capital</a:t>
              </a:r>
              <a:endParaRPr b="0" lang="en-US" sz="1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3" name="_s1038"/>
            <p:cNvSpPr/>
            <p:nvPr/>
          </p:nvSpPr>
          <p:spPr>
            <a:xfrm>
              <a:off x="6831000" y="3096720"/>
              <a:ext cx="178200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Trade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2" name="_s1039"/>
            <p:cNvSpPr/>
            <p:nvPr/>
          </p:nvSpPr>
          <p:spPr>
            <a:xfrm>
              <a:off x="671184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w Markets 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eded 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(Imperialism)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5" name="_s1040"/>
            <p:cNvSpPr/>
            <p:nvPr/>
          </p:nvSpPr>
          <p:spPr>
            <a:xfrm>
              <a:off x="344520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5b5249"/>
                  </a:solidFill>
                  <a:latin typeface="Arial"/>
                </a:rPr>
                <a:t>Invest in Inventions</a:t>
              </a:r>
              <a:endParaRPr b="0" lang="en-US" sz="1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7" name="_s1041"/>
            <p:cNvSpPr/>
            <p:nvPr/>
          </p:nvSpPr>
          <p:spPr>
            <a:xfrm>
              <a:off x="1128600" y="3730680"/>
              <a:ext cx="201924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ed More Stuff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4" name="_s1042"/>
            <p:cNvSpPr/>
            <p:nvPr/>
          </p:nvSpPr>
          <p:spPr>
            <a:xfrm>
              <a:off x="4752000" y="4683240"/>
              <a:ext cx="2054520" cy="6465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</a:rPr>
                <a:t>Rise of Bourgeoisie 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</a:rPr>
                <a:t>Capitalist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frican Imperialism - Cau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Humanitarian” – Queen Victoria sponsored Livingstone’s missionary work, Kipling’s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hite Man’s Burden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social-Darwinian b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eed for Raw Materials – gold, rubber (Congo), cotton (Egypt), palm 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ationalism – Scramble for Africa (no longer expansion in Europe due to Congress of Vienn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ilitary Ba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ew Technology – quinine, cartography, maxim machine gun, steam ships, telegrap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Rectangle 2"/>
          <p:cNvSpPr/>
          <p:nvPr/>
        </p:nvSpPr>
        <p:spPr>
          <a:xfrm>
            <a:off x="1143000" y="1066680"/>
            <a:ext cx="480060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ake up the White Man's burden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Send forth the best ye bree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Go, bind your sons to exil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o serve your captive's need;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o wait, in heavy harness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On fluttered folk and wil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Your new-caught sullen peoples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Half devil and half child. 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ake up the White Man's burden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And reap his old rewar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blame of those ye bette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hate of those ye guar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cry of those ye humo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(Ah, slowly!) toward the light: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"Why brought ye us from bondage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Our loved Egyptian night?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7" name="Rectangle 3"/>
          <p:cNvSpPr/>
          <p:nvPr/>
        </p:nvSpPr>
        <p:spPr>
          <a:xfrm rot="1046400">
            <a:off x="5306400" y="909360"/>
            <a:ext cx="3581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White Man's Burd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y Rudyard Kipl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irst published in </a:t>
            </a:r>
            <a:r>
              <a:rPr b="0" i="1" lang="en-US" sz="2400" spc="-1" strike="noStrike">
                <a:solidFill>
                  <a:srgbClr val="5b5249"/>
                </a:solidFill>
                <a:latin typeface="Arial"/>
              </a:rPr>
              <a:t>McClure's Magazine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(Feb. 1899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erial Confli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ramble for Afric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343400" y="2101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ecil Rhode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de Beer’s Mining Company /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ape to Cairo Railroad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ulu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wars – England wins due to better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Boer War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1899-1902 between England and Dutch farmers  (established apartheid to appease Dutch farmer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King Leopold’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abuse of natives in Cong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2" name="Picture 5" descr="rhodes"/>
          <p:cNvPicPr/>
          <p:nvPr/>
        </p:nvPicPr>
        <p:blipFill>
          <a:blip r:embed="rId1"/>
          <a:stretch/>
        </p:blipFill>
        <p:spPr>
          <a:xfrm>
            <a:off x="609480" y="2641680"/>
            <a:ext cx="3079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rlin Conference - 1885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lled for by Otto von Bismar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reat of King Leopold’s Con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Nati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5" name="Picture 3" descr="africa 1885-1914"/>
          <p:cNvPicPr/>
          <p:nvPr/>
        </p:nvPicPr>
        <p:blipFill>
          <a:blip r:embed="rId1"/>
          <a:stretch/>
        </p:blipFill>
        <p:spPr>
          <a:xfrm>
            <a:off x="3962520" y="2286000"/>
            <a:ext cx="49528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2"/>
          <p:cNvSpPr/>
          <p:nvPr/>
        </p:nvSpPr>
        <p:spPr>
          <a:xfrm>
            <a:off x="1327680" y="914400"/>
            <a:ext cx="27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oper Black"/>
              </a:rPr>
              <a:t>British Eas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oper Black"/>
              </a:rPr>
              <a:t>India Compan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7" name="Text Box 3"/>
          <p:cNvSpPr/>
          <p:nvPr/>
        </p:nvSpPr>
        <p:spPr>
          <a:xfrm>
            <a:off x="457200" y="19810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ok advantage of religious conflicts of     Hindus and Muslim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ounded in 1600 to sell Indian products       such as cotton, silk, sugar and ju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1756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bert Clive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raised an army of native soldiers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oy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) to support gov’ts favorable to British East India Company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8" name="Picture 4" descr="New Arrow"/>
          <p:cNvPicPr/>
          <p:nvPr/>
        </p:nvPicPr>
        <p:blipFill>
          <a:blip r:embed="rId1"/>
          <a:stretch/>
        </p:blipFill>
        <p:spPr>
          <a:xfrm>
            <a:off x="1523880" y="502920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5"/>
          <p:cNvSpPr/>
          <p:nvPr/>
        </p:nvSpPr>
        <p:spPr>
          <a:xfrm>
            <a:off x="3276720" y="480060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Commercial Colonialism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” – controlled foreign trade and used native army to keep local rulers in po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0" name="Picture 6" descr="Robert Clive-1"/>
          <p:cNvPicPr/>
          <p:nvPr/>
        </p:nvPicPr>
        <p:blipFill>
          <a:blip r:embed="rId2">
            <a:lum contrast="6000"/>
          </a:blip>
          <a:srcRect l="0" t="0" r="5154" b="6778"/>
          <a:stretch/>
        </p:blipFill>
        <p:spPr>
          <a:xfrm>
            <a:off x="6643800" y="0"/>
            <a:ext cx="2500200" cy="3352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612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Sepoy Mutiny - 1857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umor Started: The rifle cartridges that were distributed 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epoy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bitten to remove a cover before being inserted into a gun) had been greased with beef and pork fat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571640" y="43434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uslim Sepoys who were not supposed to consume pork, and the Hindu Sepoys who were not supposed to eat beef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4" name="Picture 5" descr="Photograph showing Indian soldiers in the Empire uniform (reconstruction)"/>
          <p:cNvPicPr/>
          <p:nvPr/>
        </p:nvPicPr>
        <p:blipFill>
          <a:blip r:embed="rId1"/>
          <a:stretch/>
        </p:blipFill>
        <p:spPr>
          <a:xfrm>
            <a:off x="5410080" y="1676520"/>
            <a:ext cx="2514600" cy="2590560"/>
          </a:xfrm>
          <a:prstGeom prst="rect">
            <a:avLst/>
          </a:prstGeom>
          <a:ln w="0">
            <a:noFill/>
          </a:ln>
        </p:spPr>
      </p:pic>
      <p:pic>
        <p:nvPicPr>
          <p:cNvPr id="3595" name="Picture 6" descr="Sepoys"/>
          <p:cNvPicPr/>
          <p:nvPr/>
        </p:nvPicPr>
        <p:blipFill>
          <a:blip r:embed="rId2"/>
          <a:srcRect l="0" t="0" r="6204" b="5717"/>
          <a:stretch/>
        </p:blipFill>
        <p:spPr>
          <a:xfrm>
            <a:off x="0" y="0"/>
            <a:ext cx="2695680" cy="3505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3596" name="AutoShape 7"/>
          <p:cNvSpPr/>
          <p:nvPr/>
        </p:nvSpPr>
        <p:spPr>
          <a:xfrm>
            <a:off x="3352680" y="2362320"/>
            <a:ext cx="1524240" cy="838080"/>
          </a:xfrm>
          <a:custGeom>
            <a:avLst/>
            <a:gdLst/>
            <a:ahLst/>
            <a:rect l="l" t="t" r="r" b="b"/>
            <a:pathLst>
              <a:path w="1524000" h="838200">
                <a:moveTo>
                  <a:pt x="2" y="320163"/>
                </a:moveTo>
                <a:lnTo>
                  <a:pt x="582119" y="320165"/>
                </a:lnTo>
                <a:lnTo>
                  <a:pt x="762000" y="0"/>
                </a:lnTo>
                <a:lnTo>
                  <a:pt x="941881" y="320165"/>
                </a:lnTo>
                <a:lnTo>
                  <a:pt x="1523998" y="320163"/>
                </a:lnTo>
                <a:lnTo>
                  <a:pt x="1053053" y="518034"/>
                </a:lnTo>
                <a:lnTo>
                  <a:pt x="1232941" y="838198"/>
                </a:lnTo>
                <a:lnTo>
                  <a:pt x="762000" y="640323"/>
                </a:lnTo>
                <a:lnTo>
                  <a:pt x="291059" y="838198"/>
                </a:lnTo>
                <a:lnTo>
                  <a:pt x="470947" y="518034"/>
                </a:lnTo>
                <a:lnTo>
                  <a:pt x="2" y="320163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WordArt 2"/>
          <p:cNvSpPr txBox="1"/>
          <p:nvPr/>
        </p:nvSpPr>
        <p:spPr>
          <a:xfrm>
            <a:off x="838080" y="609480"/>
            <a:ext cx="2895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The Raj: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"Jewel in the Crown"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of the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British Empire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pic>
        <p:nvPicPr>
          <p:cNvPr id="3598" name="Picture 3" descr="Imperial Indian Flag"/>
          <p:cNvPicPr/>
          <p:nvPr/>
        </p:nvPicPr>
        <p:blipFill>
          <a:blip r:embed="rId1"/>
          <a:stretch/>
        </p:blipFill>
        <p:spPr>
          <a:xfrm>
            <a:off x="6324480" y="38088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599" name="Picture 4" descr="Disraeli giving Victoria the Jewel in the Crown"/>
          <p:cNvPicPr/>
          <p:nvPr/>
        </p:nvPicPr>
        <p:blipFill>
          <a:blip r:embed="rId2"/>
          <a:stretch/>
        </p:blipFill>
        <p:spPr>
          <a:xfrm>
            <a:off x="5867280" y="2666880"/>
            <a:ext cx="2870280" cy="3733920"/>
          </a:xfrm>
          <a:prstGeom prst="rect">
            <a:avLst/>
          </a:prstGeom>
          <a:ln w="0">
            <a:noFill/>
          </a:ln>
        </p:spPr>
      </p:pic>
      <p:sp>
        <p:nvSpPr>
          <p:cNvPr id="3600" name="Text Box 5"/>
          <p:cNvSpPr/>
          <p:nvPr/>
        </p:nvSpPr>
        <p:spPr>
          <a:xfrm>
            <a:off x="609480" y="259092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rect Colony –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odern system of progressive secondary education (to train Indian civil servants)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mproved health ca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conomic reforms (irrigation, railroads, tea and jute plantations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creation of unified and powerful sta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nd sutte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ec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1" name="Rectangle 6"/>
          <p:cNvSpPr/>
          <p:nvPr/>
        </p:nvSpPr>
        <p:spPr>
          <a:xfrm>
            <a:off x="426708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aj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—term for British rule over India, lasts from 175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to 194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ative Impacts of colonization on India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British hold much of political and economic pow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ash crops result in loss of self-sufficiency, fam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dian life disrupted by missionaries and racist attitud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ritish textile industry puts out of work native indust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amindar system of tax collection is corrup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ails to bring benefits of modern science and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eforms –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INC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by Nehru and Gandhi – 1885;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Muslim League 190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heres of Influence in Chi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700s – unfavorable balance of trade, one city Canton open, 1793 Lord Macartney attempted op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mported Opium, Manchus forbid i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39 –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Opium War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British won due to better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42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Treat of Nanj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unequal) – open ports, extraterritoriality, Hong Kong to England, repar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Warlords negotiate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spheres of influen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merican – Open Door Polic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Resistance – Taiping and Boxer Rebell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07" name="Picture 4" descr="Western factories in Canton, China."/>
          <p:cNvPicPr/>
          <p:nvPr/>
        </p:nvPicPr>
        <p:blipFill>
          <a:blip r:embed="rId1"/>
          <a:stretch/>
        </p:blipFill>
        <p:spPr>
          <a:xfrm>
            <a:off x="4876920" y="3886200"/>
            <a:ext cx="37335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inese Revolution - 191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auses:  discontent of peasants with Qing’s losses in Opium War and Sino-Japanese (1895) with Taiping and later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Boxer Rebellions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900); spread of reform ideas among Western-educated Chine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Self-Strengthening Mov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owager Empress Cixi - Opposed all reform – pro-Western treas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Sun Yat-sen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– father of modern Chin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8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hree Principles of the Peop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1.  Constitutional democra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2.  No Foreigner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3.  State control over essential industri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esults - Chiang Kai-shek leads nationalist republic (Kuomintang) in civil war against communist Ma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0" name="Picture 4" descr="sun"/>
          <p:cNvPicPr/>
          <p:nvPr/>
        </p:nvPicPr>
        <p:blipFill>
          <a:blip r:embed="rId1"/>
          <a:stretch/>
        </p:blipFill>
        <p:spPr>
          <a:xfrm>
            <a:off x="6959520" y="228600"/>
            <a:ext cx="2184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First vs. Second Industrial Revolu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irst Industrial Revolution – (1750-1850) new agricultural methods, textiles, railroads, iron, and co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econd Industrial Revolution (1870-1914) – steel, chemicals, electricity, telephone, automobile and petroleum (Whitney – standardized part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0" name="Picture 4" descr="rural"/>
          <p:cNvPicPr/>
          <p:nvPr/>
        </p:nvPicPr>
        <p:blipFill>
          <a:blip r:embed="rId1"/>
          <a:stretch/>
        </p:blipFill>
        <p:spPr>
          <a:xfrm>
            <a:off x="2133720" y="4768920"/>
            <a:ext cx="1790640" cy="1266840"/>
          </a:xfrm>
          <a:prstGeom prst="rect">
            <a:avLst/>
          </a:prstGeom>
          <a:ln w="0">
            <a:noFill/>
          </a:ln>
        </p:spPr>
      </p:pic>
      <p:pic>
        <p:nvPicPr>
          <p:cNvPr id="3421" name="Picture 5" descr="arrow"/>
          <p:cNvPicPr/>
          <p:nvPr/>
        </p:nvPicPr>
        <p:blipFill>
          <a:blip r:embed="rId2"/>
          <a:stretch/>
        </p:blipFill>
        <p:spPr>
          <a:xfrm>
            <a:off x="4343400" y="4921200"/>
            <a:ext cx="1171440" cy="961920"/>
          </a:xfrm>
          <a:prstGeom prst="rect">
            <a:avLst/>
          </a:prstGeom>
          <a:ln w="0">
            <a:noFill/>
          </a:ln>
        </p:spPr>
      </p:pic>
      <p:pic>
        <p:nvPicPr>
          <p:cNvPr id="3422" name="Picture 6" descr="urban"/>
          <p:cNvPicPr/>
          <p:nvPr/>
        </p:nvPicPr>
        <p:blipFill>
          <a:blip r:embed="rId3"/>
          <a:stretch/>
        </p:blipFill>
        <p:spPr>
          <a:xfrm>
            <a:off x="6248520" y="4876920"/>
            <a:ext cx="1857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apan’s Rea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mmodore Matthew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Perry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– 185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reaty of Kanagaw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Meiji Restoration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-  (1868-1912); Westernizes AND Modernize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nizes –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Sino-Japanese &amp; Russo-Japanese War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905) because Japan LACKS NATURAL RESOURC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3" name="Picture 4" descr="Europeans in Japan during the Meiji Restoration"/>
          <p:cNvPicPr/>
          <p:nvPr/>
        </p:nvPicPr>
        <p:blipFill>
          <a:blip r:embed="rId1"/>
          <a:stretch/>
        </p:blipFill>
        <p:spPr>
          <a:xfrm>
            <a:off x="5715000" y="2133720"/>
            <a:ext cx="2914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dustrial Revolution - Cau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hift from Cottage/Domestic Industry (people make at home) to Factory System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Cause – </a:t>
            </a:r>
            <a:r>
              <a:rPr b="1" lang="en-US" sz="24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Rising Populati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on due to Agrarian Revolutio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tarted with Textiles (Flying Shuttle, Spinning Jenny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5" name="Picture 4" descr="Spinning Jenn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76960" y="1447920"/>
            <a:ext cx="3767040" cy="4114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Text Box 2"/>
          <p:cNvSpPr/>
          <p:nvPr/>
        </p:nvSpPr>
        <p:spPr>
          <a:xfrm>
            <a:off x="533520" y="43164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heshireBroad"/>
              </a:rPr>
              <a:t>England Industrialized First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7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396216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</a:rPr>
              <a:t>Good Harbo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</a:rPr>
              <a:t>Natural Supply of Coal and Ir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se gov’t regulations (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laissez-faire – </a:t>
            </a:r>
            <a:r>
              <a:rPr b="1" i="1" lang="en-US" sz="2400" spc="-1" strike="noStrike">
                <a:solidFill>
                  <a:srgbClr val="991f0b"/>
                </a:solidFill>
                <a:latin typeface="Times New Roman"/>
              </a:rPr>
              <a:t>Wealth of Nations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 – Adam Smith 1776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) with political stabil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ts of capital to invest due to colonies in America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8" name="Picture 7" descr="http://2.bp.blogspot.com/-xLxZMzvhqiQ/TiBysOJz8cI/AAAAAAAABPY/NKbd1r9pTy8/s1600/England-Map-on-Europe.gif"/>
          <p:cNvPicPr/>
          <p:nvPr/>
        </p:nvPicPr>
        <p:blipFill>
          <a:blip r:embed="rId1"/>
          <a:stretch/>
        </p:blipFill>
        <p:spPr>
          <a:xfrm>
            <a:off x="5105520" y="0"/>
            <a:ext cx="3657600" cy="3448080"/>
          </a:xfrm>
          <a:prstGeom prst="rect">
            <a:avLst/>
          </a:prstGeom>
          <a:ln w="0">
            <a:noFill/>
          </a:ln>
        </p:spPr>
      </p:pic>
      <p:pic>
        <p:nvPicPr>
          <p:cNvPr id="3429" name="" descr=""/>
          <p:cNvPicPr/>
          <p:nvPr/>
        </p:nvPicPr>
        <p:blipFill>
          <a:blip r:embed="rId2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ults of Industrial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rb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 of Women &amp; Children as La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l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Energy – water, coal, and electric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Transportation – canal, trains, cars, pla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erialis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2" name=""/>
          <p:cNvSpPr txBox="1"/>
          <p:nvPr/>
        </p:nvSpPr>
        <p:spPr>
          <a:xfrm>
            <a:off x="49528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Social Class – middle (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ourgeoisi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and lower – factory worker (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proletaria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lth now based on factory ownership (capitalis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434" name="Content Placeholder 54274"/>
          <p:cNvGrpSpPr/>
          <p:nvPr/>
        </p:nvGrpSpPr>
        <p:grpSpPr>
          <a:xfrm>
            <a:off x="186480" y="1656360"/>
            <a:ext cx="8401680" cy="4476240"/>
            <a:chOff x="186480" y="1656360"/>
            <a:chExt cx="8401680" cy="4476240"/>
          </a:xfrm>
        </p:grpSpPr>
        <p:cxnSp>
          <p:nvCxnSpPr>
            <p:cNvPr id="3435" name="_s2052"/>
            <p:cNvCxnSpPr>
              <a:stCxn id="3436" idx="1"/>
              <a:endCxn id="3437" idx="2"/>
            </p:cNvCxnSpPr>
            <p:nvPr/>
          </p:nvCxnSpPr>
          <p:spPr>
            <a:xfrm rot="10800000">
              <a:off x="4408200" y="5044680"/>
              <a:ext cx="315000" cy="62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38" name="_s2053"/>
            <p:cNvCxnSpPr>
              <a:stCxn id="3437" idx="1"/>
              <a:endCxn id="3439" idx="2"/>
            </p:cNvCxnSpPr>
            <p:nvPr/>
          </p:nvCxnSpPr>
          <p:spPr>
            <a:xfrm rot="10800000">
              <a:off x="2033280" y="4157280"/>
              <a:ext cx="316800" cy="525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40" name="_s2054"/>
            <p:cNvCxnSpPr>
              <a:stCxn id="3439" idx="0"/>
              <a:endCxn id="3441" idx="2"/>
            </p:cNvCxnSpPr>
            <p:nvPr/>
          </p:nvCxnSpPr>
          <p:spPr>
            <a:xfrm flipH="1" flipV="1" rot="5400000">
              <a:off x="3129120" y="2247120"/>
              <a:ext cx="162720" cy="2353680"/>
            </a:xfrm>
            <a:prstGeom prst="bentConnector3">
              <a:avLst>
                <a:gd name="adj1" fmla="val 49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42" name="_s2055"/>
            <p:cNvCxnSpPr>
              <a:stCxn id="3441" idx="0"/>
              <a:endCxn id="3443" idx="2"/>
            </p:cNvCxnSpPr>
            <p:nvPr/>
          </p:nvCxnSpPr>
          <p:spPr>
            <a:xfrm flipV="1">
              <a:off x="4386960" y="2240280"/>
              <a:ext cx="2880" cy="161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443" name="_s2056"/>
            <p:cNvSpPr/>
            <p:nvPr/>
          </p:nvSpPr>
          <p:spPr>
            <a:xfrm>
              <a:off x="2491200" y="1656360"/>
              <a:ext cx="3791880" cy="58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5b5249"/>
                  </a:solidFill>
                  <a:latin typeface="Arial"/>
                </a:rPr>
                <a:t>Water Power Limited</a:t>
              </a:r>
              <a:endParaRPr b="0" lang="en-US" sz="31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41" name="_s2057"/>
            <p:cNvSpPr/>
            <p:nvPr/>
          </p:nvSpPr>
          <p:spPr>
            <a:xfrm>
              <a:off x="3328200" y="2402640"/>
              <a:ext cx="2117880" cy="94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Turn to Coal </a:t>
              </a:r>
              <a:endParaRPr b="0" lang="en-US" sz="2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&amp; Steam</a:t>
              </a: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	</a:t>
              </a:r>
              <a:endParaRPr b="0" lang="en-US" sz="27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9" name="_s2058"/>
            <p:cNvSpPr/>
            <p:nvPr/>
          </p:nvSpPr>
          <p:spPr>
            <a:xfrm>
              <a:off x="186480" y="3505320"/>
              <a:ext cx="3695040" cy="65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</a:rPr>
                <a:t>James Watt 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</a:rPr>
                <a:t>Steam Engine 1769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7" name="_s2059"/>
            <p:cNvSpPr/>
            <p:nvPr/>
          </p:nvSpPr>
          <p:spPr>
            <a:xfrm>
              <a:off x="2350440" y="4320000"/>
              <a:ext cx="411264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5b5249"/>
                  </a:solidFill>
                  <a:latin typeface="Arial"/>
                </a:rPr>
                <a:t>1814 Steam Powered </a:t>
              </a:r>
              <a:endParaRPr b="0" lang="en-US" sz="21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5b5249"/>
                  </a:solidFill>
                  <a:latin typeface="Arial"/>
                </a:rPr>
                <a:t>Train to get more coal</a:t>
              </a:r>
              <a:endParaRPr b="0" lang="en-US" sz="21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6" name="_s2060"/>
            <p:cNvSpPr/>
            <p:nvPr/>
          </p:nvSpPr>
          <p:spPr>
            <a:xfrm>
              <a:off x="4723560" y="5206680"/>
              <a:ext cx="3864600" cy="92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Urbanization – 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not have to be along 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rivers any more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Oval 2"/>
          <p:cNvSpPr/>
          <p:nvPr/>
        </p:nvSpPr>
        <p:spPr>
          <a:xfrm>
            <a:off x="3505320" y="1600200"/>
            <a:ext cx="2438280" cy="2286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5" name="AutoShape 3"/>
          <p:cNvSpPr/>
          <p:nvPr/>
        </p:nvSpPr>
        <p:spPr>
          <a:xfrm>
            <a:off x="1409760" y="3809880"/>
            <a:ext cx="2095560" cy="45720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12545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Pol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6" name="AutoShape 4"/>
          <p:cNvSpPr/>
          <p:nvPr/>
        </p:nvSpPr>
        <p:spPr>
          <a:xfrm>
            <a:off x="1752480" y="4952880"/>
            <a:ext cx="129564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oard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7" name="AutoShape 5"/>
          <p:cNvSpPr/>
          <p:nvPr/>
        </p:nvSpPr>
        <p:spPr>
          <a:xfrm>
            <a:off x="3276720" y="5867280"/>
            <a:ext cx="91440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od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8" name="AutoShape 6"/>
          <p:cNvSpPr/>
          <p:nvPr/>
        </p:nvSpPr>
        <p:spPr>
          <a:xfrm>
            <a:off x="380880" y="5715000"/>
            <a:ext cx="1219320" cy="91440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 discovers ger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9" name="AutoShape 7"/>
          <p:cNvSpPr/>
          <p:nvPr/>
        </p:nvSpPr>
        <p:spPr>
          <a:xfrm>
            <a:off x="6781680" y="800280"/>
            <a:ext cx="1600200" cy="11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29" y="20206"/>
                </a:moveTo>
                <a:lnTo>
                  <a:pt x="-1029" y="209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abor Forc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ldren &amp; wome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0" name="AutoShape 8"/>
          <p:cNvSpPr/>
          <p:nvPr/>
        </p:nvSpPr>
        <p:spPr>
          <a:xfrm>
            <a:off x="7086600" y="2743200"/>
            <a:ext cx="9144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1" name="AutoShape 9"/>
          <p:cNvSpPr/>
          <p:nvPr/>
        </p:nvSpPr>
        <p:spPr>
          <a:xfrm>
            <a:off x="6019920" y="3809880"/>
            <a:ext cx="99036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Ac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2" name="AutoShape 10"/>
          <p:cNvSpPr/>
          <p:nvPr/>
        </p:nvSpPr>
        <p:spPr>
          <a:xfrm>
            <a:off x="4495680" y="533520"/>
            <a:ext cx="16002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inism (suffrage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3" name="AutoShape 11"/>
          <p:cNvSpPr/>
          <p:nvPr/>
        </p:nvSpPr>
        <p:spPr>
          <a:xfrm>
            <a:off x="6553080" y="5181480"/>
            <a:ext cx="14479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737" y="-64800"/>
                </a:moveTo>
                <a:lnTo>
                  <a:pt x="22737" y="2314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Dickens/ Karl Marx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4" name="AutoShape 12"/>
          <p:cNvSpPr/>
          <p:nvPr/>
        </p:nvSpPr>
        <p:spPr>
          <a:xfrm flipH="1">
            <a:off x="4572000" y="4952880"/>
            <a:ext cx="1447920" cy="8384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8 Revolu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7:27:02Z</dcterms:created>
  <dc:creator>IT</dc:creator>
  <dc:description/>
  <dc:language>en-US</dc:language>
  <cp:lastModifiedBy>Windows User</cp:lastModifiedBy>
  <cp:lastPrinted>2014-07-25T17:55:02Z</cp:lastPrinted>
  <dcterms:modified xsi:type="dcterms:W3CDTF">2015-06-26T11:26:53Z</dcterms:modified>
  <cp:revision>105</cp:revision>
  <dc:subject/>
  <dc:title>1750-1914</dc:title>
</cp:coreProperties>
</file>